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A3F-5B6D-4FA5-B38B-2E7182A3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82E-C61B-45CB-ABD3-191978E9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F91-0A9C-4480-BCD0-F4744549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086-32AF-4DBA-B672-8BF77D16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581-13CC-45DA-9408-FFF82124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CCA-1751-4705-B731-AB2B3E46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479-3A7D-42AE-BAFC-CC96F35C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16B-4058-4EF8-8ED8-D719158A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D01-A4D7-4A9F-896D-073EF468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6F4-3C95-4B99-BE33-199AA5C0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BDE-D927-4816-869D-636D1E98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4F8-AD2A-4D5C-903A-8ECD28E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D52A7CEB-DA5C-4D95-9A12-B9FC60CA58B9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00200" y="7010280"/>
            <a:ext cx="25069680" cy="2920320"/>
            <a:chOff x="1600200" y="7010280"/>
            <a:chExt cx="25069680" cy="2920320"/>
          </a:xfrm>
        </p:grpSpPr>
        <p:sp>
          <p:nvSpPr>
            <p:cNvPr id="42" name=""/>
            <p:cNvSpPr/>
            <p:nvPr/>
          </p:nvSpPr>
          <p:spPr>
            <a:xfrm>
              <a:off x="1600200" y="7010280"/>
              <a:ext cx="240030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Comic Sans MS"/>
                </a:rPr>
                <a:t>Composición de colores</a:t>
              </a:r>
              <a:endParaRPr b="0" lang="en-US" sz="1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52480" y="9105480"/>
              <a:ext cx="2491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PENSAR: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El color es una propiedad del objeto o de la luz que lo ilumina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752480" y="62485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0972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3746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9800" y="2895480"/>
            <a:ext cx="9829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1658600"/>
            <a:ext cx="25793640" cy="12902760"/>
            <a:chOff x="0" y="11658600"/>
            <a:chExt cx="25793640" cy="12902760"/>
          </a:xfrm>
        </p:grpSpPr>
        <p:grpSp>
          <p:nvGrpSpPr>
            <p:cNvPr id="49" name=""/>
            <p:cNvGrpSpPr/>
            <p:nvPr/>
          </p:nvGrpSpPr>
          <p:grpSpPr>
            <a:xfrm>
              <a:off x="1943280" y="15613200"/>
              <a:ext cx="23850360" cy="1817280"/>
              <a:chOff x="1943280" y="15613200"/>
              <a:chExt cx="23850360" cy="181728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2239920" y="16406640"/>
                <a:ext cx="22960080" cy="228600"/>
                <a:chOff x="2239920" y="16406640"/>
                <a:chExt cx="22960080" cy="2286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239920" y="16406640"/>
                  <a:ext cx="22960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4627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948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349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9210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98931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06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3792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8653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3514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5837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88096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73235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7818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95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32678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47539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19432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s-E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42900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9150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60564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86880" y="15644880"/>
                <a:ext cx="125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372600" y="1564488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858680" y="15644880"/>
                <a:ext cx="133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345840" y="15644880"/>
                <a:ext cx="1217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831920" y="15644880"/>
                <a:ext cx="125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317640" y="15644880"/>
                <a:ext cx="137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803720" y="15644880"/>
                <a:ext cx="133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289440" y="15644880"/>
                <a:ext cx="129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775520" y="15613200"/>
                <a:ext cx="1485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61240" y="15644880"/>
                <a:ext cx="170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747320" y="15613200"/>
                <a:ext cx="141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233040" y="15644880"/>
                <a:ext cx="156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968040" y="16787880"/>
                <a:ext cx="839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ngitud de onda (en metros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28600" y="13092120"/>
              <a:ext cx="88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Tamaño de la longitud de ond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9531080"/>
              <a:ext cx="716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Ejemplo de fuen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11658600"/>
              <a:ext cx="10820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EMPEZAR A ENTEND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16080" y="1169676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63720" y="11658600"/>
              <a:ext cx="952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QUÉ ES LA LUZ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24160" y="17411760"/>
              <a:ext cx="6019920" cy="914400"/>
            </a:xfrm>
            <a:prstGeom prst="leftArrow">
              <a:avLst>
                <a:gd name="adj1" fmla="val 50000"/>
                <a:gd name="adj2" fmla="val 1645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29280" y="176212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ndas de r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67760" y="1861200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77240" y="185356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cro-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163240" y="17640360"/>
              <a:ext cx="5105520" cy="457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306240" y="175546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frarroj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73680" y="1764036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16280" y="175928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ltraviole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554760" y="18631080"/>
              <a:ext cx="32767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73880" y="1858320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blan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221640" y="17411760"/>
              <a:ext cx="3733920" cy="876240"/>
            </a:xfrm>
            <a:prstGeom prst="rightArrow">
              <a:avLst>
                <a:gd name="adj1" fmla="val 50000"/>
                <a:gd name="adj2" fmla="val 106532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383560" y="1756404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du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203080" y="18402480"/>
              <a:ext cx="2209680" cy="838080"/>
            </a:xfrm>
            <a:prstGeom prst="rightArrow">
              <a:avLst>
                <a:gd name="adj1" fmla="val 50000"/>
                <a:gd name="adj2" fmla="val 65915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45880" y="185356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Ga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30600" y="176403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87280" y="22364640"/>
              <a:ext cx="10439280" cy="106704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6040160" y="18097560"/>
              <a:ext cx="838080" cy="4190760"/>
              <a:chOff x="16040160" y="18097560"/>
              <a:chExt cx="838080" cy="41907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14363640" y="19773720"/>
                <a:ext cx="4190760" cy="838080"/>
              </a:xfrm>
              <a:prstGeom prst="rightArrow">
                <a:avLst>
                  <a:gd name="adj1" fmla="val 50000"/>
                  <a:gd name="adj2" fmla="val 125011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14709960" y="19706040"/>
                <a:ext cx="351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Visi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9" name="estadio" descr=""/>
            <p:cNvPicPr/>
            <p:nvPr/>
          </p:nvPicPr>
          <p:blipFill>
            <a:blip r:embed="rId1"/>
            <a:stretch/>
          </p:blipFill>
          <p:spPr>
            <a:xfrm>
              <a:off x="2476440" y="14135040"/>
              <a:ext cx="236232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ersona" descr=""/>
            <p:cNvPicPr/>
            <p:nvPr/>
          </p:nvPicPr>
          <p:blipFill>
            <a:blip r:embed="rId2"/>
            <a:stretch/>
          </p:blipFill>
          <p:spPr>
            <a:xfrm>
              <a:off x="5600880" y="14135040"/>
              <a:ext cx="9651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elota" descr=""/>
            <p:cNvPicPr/>
            <p:nvPr/>
          </p:nvPicPr>
          <p:blipFill>
            <a:blip r:embed="rId3"/>
            <a:stretch/>
          </p:blipFill>
          <p:spPr>
            <a:xfrm>
              <a:off x="7201080" y="1421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mosca" descr=""/>
            <p:cNvPicPr/>
            <p:nvPr/>
          </p:nvPicPr>
          <p:blipFill>
            <a:blip r:embed="rId4"/>
            <a:stretch/>
          </p:blipFill>
          <p:spPr>
            <a:xfrm>
              <a:off x="9296280" y="14059080"/>
              <a:ext cx="10414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celula" descr=""/>
            <p:cNvPicPr/>
            <p:nvPr/>
          </p:nvPicPr>
          <p:blipFill>
            <a:blip r:embed="rId5"/>
            <a:stretch/>
          </p:blipFill>
          <p:spPr>
            <a:xfrm>
              <a:off x="12916080" y="14135040"/>
              <a:ext cx="1320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552760" y="136018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t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5960" y="136018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96160" y="13601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lo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77240" y="1360188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s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534840" y="136018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él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bacteria" descr=""/>
            <p:cNvPicPr/>
            <p:nvPr/>
          </p:nvPicPr>
          <p:blipFill>
            <a:blip r:embed="rId6"/>
            <a:stretch/>
          </p:blipFill>
          <p:spPr>
            <a:xfrm>
              <a:off x="15887880" y="141350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659280" y="136159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roteina" descr=""/>
            <p:cNvPicPr/>
            <p:nvPr/>
          </p:nvPicPr>
          <p:blipFill>
            <a:blip r:embed="rId7"/>
            <a:stretch/>
          </p:blipFill>
          <p:spPr>
            <a:xfrm>
              <a:off x="18783360" y="14211360"/>
              <a:ext cx="14349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8631080" y="136018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teí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molecula" descr=""/>
            <p:cNvPicPr/>
            <p:nvPr/>
          </p:nvPicPr>
          <p:blipFill>
            <a:blip r:embed="rId8"/>
            <a:stretch/>
          </p:blipFill>
          <p:spPr>
            <a:xfrm>
              <a:off x="20764440" y="14135040"/>
              <a:ext cx="1109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0510640" y="136396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léc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1880" y="23736240"/>
              <a:ext cx="2278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general se llama LUZ a la porción visible del espectro electromagnétic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99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10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6284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28700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73480" y="2030724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691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9837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55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4160" y="21069360"/>
              <a:ext cx="140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ioA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9200" y="21145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V, F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05720" y="2106936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rno Micro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39360" y="211456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35720" y="210312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ncrotr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145680" y="21069360"/>
              <a:ext cx="19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quipo de Rayos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98160" y="2110752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radiactiv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497360" y="1946916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 Lámpa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639680" y="2114568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bjetos calie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00200" y="26674920"/>
            <a:ext cx="23622120" cy="7387920"/>
            <a:chOff x="1600200" y="26674920"/>
            <a:chExt cx="23622120" cy="7387920"/>
          </a:xfrm>
        </p:grpSpPr>
        <p:sp>
          <p:nvSpPr>
            <p:cNvPr id="144" name=""/>
            <p:cNvSpPr/>
            <p:nvPr/>
          </p:nvSpPr>
          <p:spPr>
            <a:xfrm>
              <a:off x="1600200" y="26750880"/>
              <a:ext cx="929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SIGUEN LAS DUDA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respuesta_ojo" descr=""/>
            <p:cNvPicPr/>
            <p:nvPr/>
          </p:nvPicPr>
          <p:blipFill>
            <a:blip r:embed="rId9"/>
            <a:stretch/>
          </p:blipFill>
          <p:spPr>
            <a:xfrm>
              <a:off x="3352680" y="28046520"/>
              <a:ext cx="6858000" cy="517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340080" y="28020960"/>
              <a:ext cx="6870600" cy="5257800"/>
              <a:chOff x="3340080" y="28020960"/>
              <a:chExt cx="6870600" cy="5257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340080" y="28020960"/>
                <a:ext cx="0" cy="5257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52680" y="33266160"/>
                <a:ext cx="6858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277720" y="2675088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868280" y="26674920"/>
              <a:ext cx="1135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OMO VEMOS LOS COLORES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3354228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nsibilidad de los tres tipos de con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658600" y="28275120"/>
              <a:ext cx="13335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Con sólo tres tipos de detectores (conos), principalmente sensibles al rojo, al verde y al azul, somos capaces de distinguir una gran variedad de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411080" y="32994720"/>
              <a:ext cx="9296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DIFICIL DE CREER.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0"/>
            <a:ext cx="26669880" cy="7010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609480"/>
            <a:ext cx="18354240" cy="6098760"/>
            <a:chOff x="4191120" y="609480"/>
            <a:chExt cx="18354240" cy="6098760"/>
          </a:xfrm>
        </p:grpSpPr>
        <p:pic>
          <p:nvPicPr>
            <p:cNvPr id="156" name="logoJPPc" descr=""/>
            <p:cNvPicPr/>
            <p:nvPr/>
          </p:nvPicPr>
          <p:blipFill>
            <a:blip r:embed="rId10"/>
            <a:stretch/>
          </p:blipFill>
          <p:spPr>
            <a:xfrm>
              <a:off x="10999080" y="609480"/>
              <a:ext cx="4138560" cy="39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h03" descr=""/>
            <p:cNvPicPr/>
            <p:nvPr/>
          </p:nvPicPr>
          <p:blipFill>
            <a:blip r:embed="rId11"/>
            <a:stretch/>
          </p:blipFill>
          <p:spPr>
            <a:xfrm>
              <a:off x="1575648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h05" descr=""/>
            <p:cNvPicPr/>
            <p:nvPr/>
          </p:nvPicPr>
          <p:blipFill>
            <a:blip r:embed="rId12"/>
            <a:stretch/>
          </p:blipFill>
          <p:spPr>
            <a:xfrm>
              <a:off x="419112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790880" y="5151240"/>
              <a:ext cx="17754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38360" y="28954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OTRA PREGU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829800" y="2743200"/>
            <a:ext cx="1508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¿Y SI MEZCLAMOS LUZ ROJA, VERDE Y AZU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949120" y="17635680"/>
            <a:ext cx="26669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ightColors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8361360" cy="8534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48720" y="2819520"/>
            <a:ext cx="1295280" cy="761760"/>
          </a:xfrm>
          <a:prstGeom prst="rightArrow">
            <a:avLst>
              <a:gd name="adj1" fmla="val 50000"/>
              <a:gd name="adj2" fmla="val 4250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0" y="5486400"/>
            <a:ext cx="1059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30200" y="4762440"/>
            <a:ext cx="11353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umando en proporciones adecuadas luz roja, verde y azul, podemos obtener una gran variedad de colores distintos. A este sistema se lo llama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(red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 (green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 (blue)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y su suma da el blanco W(whit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011280" y="9677520"/>
            <a:ext cx="7010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Y (yellow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C (cya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M (magent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144781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25831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15544800"/>
            <a:ext cx="24041160" cy="10028880"/>
            <a:chOff x="1600200" y="15544800"/>
            <a:chExt cx="24041160" cy="10028880"/>
          </a:xfrm>
        </p:grpSpPr>
        <p:sp>
          <p:nvSpPr>
            <p:cNvPr id="171" name=""/>
            <p:cNvSpPr/>
            <p:nvPr/>
          </p:nvSpPr>
          <p:spPr>
            <a:xfrm>
              <a:off x="1600200" y="15621120"/>
              <a:ext cx="662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NUEVA DUD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15621120"/>
              <a:ext cx="1295640" cy="761760"/>
            </a:xfrm>
            <a:prstGeom prst="rightArrow">
              <a:avLst>
                <a:gd name="adj1" fmla="val 50000"/>
                <a:gd name="adj2" fmla="val 4252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05840" y="15544800"/>
              <a:ext cx="16535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PORQUÉ SI MEZCLAMOS PINTURAS NO ES ASÍ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20720" y="17030880"/>
              <a:ext cx="1257300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Los pigmentos actúan absorbiendo luz de determinada longitud de onda. Por ejemplo, un objeto iluminado con luz blanca se ve amarillo porque absorbe el azul y refleja el rojo y el verd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19431000"/>
              <a:ext cx="5181480" cy="1295280"/>
            </a:xfrm>
            <a:prstGeom prst="parallelogram">
              <a:avLst>
                <a:gd name="adj" fmla="val 1000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17449920"/>
              <a:ext cx="2514600" cy="228600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09960" y="17830800"/>
              <a:ext cx="2514600" cy="22860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5040" y="18211680"/>
              <a:ext cx="2514600" cy="228600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248520" y="17678160"/>
              <a:ext cx="2133360" cy="190476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905440" y="18554760"/>
              <a:ext cx="2133720" cy="190512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9960" y="22555080"/>
              <a:ext cx="220219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Usualmente vemos los objetos iluminados con luz blanca. En este caso mezclando tintas cyan, magenta y amarillo podemos lograr una extensa gama de colores, tal como lo hacen por ejemplo las impresoras de PC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57680" y="21259800"/>
              <a:ext cx="2164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L COLOR DE UN OBJETO DEPENDE DE LA LUZ QUE LO ILUMINA!!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0729800" y="17673480"/>
            <a:ext cx="266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6822520"/>
            <a:ext cx="23393520" cy="9278280"/>
            <a:chOff x="1523880" y="26822520"/>
            <a:chExt cx="23393520" cy="9278280"/>
          </a:xfrm>
        </p:grpSpPr>
        <p:sp>
          <p:nvSpPr>
            <p:cNvPr id="185" name=""/>
            <p:cNvSpPr/>
            <p:nvPr/>
          </p:nvSpPr>
          <p:spPr>
            <a:xfrm>
              <a:off x="1523880" y="27050760"/>
              <a:ext cx="94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TERMINAR....O EMPEZA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73000" y="26822520"/>
              <a:ext cx="12268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ÓMO SE CREAN LOS COLORES EN UNA PANTALLA DE TV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125080" y="26974800"/>
              <a:ext cx="1295280" cy="761400"/>
            </a:xfrm>
            <a:prstGeom prst="rightArrow">
              <a:avLst>
                <a:gd name="adj1" fmla="val 50000"/>
                <a:gd name="adj2" fmla="val 4253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rgbScreenComp" descr=""/>
            <p:cNvPicPr/>
            <p:nvPr/>
          </p:nvPicPr>
          <p:blipFill>
            <a:blip r:embed="rId2"/>
            <a:stretch/>
          </p:blipFill>
          <p:spPr>
            <a:xfrm>
              <a:off x="1828800" y="29336760"/>
              <a:ext cx="12801600" cy="67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6062120" y="30084480"/>
              <a:ext cx="885528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este caso la pantalla emite luz, no la absorbe, por lo tanto con la suma adecuada de </a:t>
              </a:r>
              <a:r>
                <a:rPr b="1" lang="en-US" sz="4800" spc="-1" strike="noStrike">
                  <a:solidFill>
                    <a:srgbClr val="ff5050"/>
                  </a:solidFill>
                  <a:latin typeface="Comic Sans MS"/>
                </a:rPr>
                <a:t>R</a:t>
              </a:r>
              <a:r>
                <a:rPr b="1" lang="en-US" sz="4800" spc="-1" strike="noStrike">
                  <a:solidFill>
                    <a:srgbClr val="33cc33"/>
                  </a:solidFill>
                  <a:latin typeface="Comic Sans MS"/>
                </a:rPr>
                <a:t>G</a:t>
              </a: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B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podemos generar todos los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Usuario</cp:lastModifiedBy>
  <cp:lastPrinted>2002-06-06T12:49:56Z</cp:lastPrinted>
  <dcterms:modified xsi:type="dcterms:W3CDTF">2005-05-13T14:05:46Z</dcterms:modified>
  <cp:revision>39</cp:revision>
  <dc:subject/>
  <dc:title>Sin título de diapositiva</dc:title>
</cp:coreProperties>
</file>