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26668413" cy="38098413"/>
  <p:notesSz cx="24293513" cy="35093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8446-8066-42B3-955A-4ACBB96CB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99800" y="11006280"/>
            <a:ext cx="226695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99800" y="22946760"/>
            <a:ext cx="226695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9EE5-827A-4D64-9B6F-4335E4B26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99800" y="1100628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615920" y="1100628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99800" y="2294676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3615920" y="2294676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9D6A-C62B-46E1-9F69-772116536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99800" y="11006280"/>
            <a:ext cx="72993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664560" y="11006280"/>
            <a:ext cx="72993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7329320" y="11006280"/>
            <a:ext cx="72993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99800" y="22946760"/>
            <a:ext cx="72993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9664560" y="22946760"/>
            <a:ext cx="72993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7329320" y="22946760"/>
            <a:ext cx="72993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0302-2A23-42D9-B009-1B2B4231D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99800" y="11006280"/>
            <a:ext cx="22669560" cy="2286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51"/>
              </a:spcBef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B1A2-0223-496A-A8D6-E85C56233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99800" y="11006280"/>
            <a:ext cx="22669560" cy="2286000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BF1A-3302-48D1-A8FB-4DDE653DB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99800" y="11006280"/>
            <a:ext cx="11062440" cy="2286000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3615920" y="11006280"/>
            <a:ext cx="11062440" cy="2286000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F6C9-749B-4E36-9AE1-E7949A484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CDC3-EEC9-40D9-ADE4-2D174255B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99800" y="3385800"/>
            <a:ext cx="22669560" cy="2943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51"/>
              </a:spcBef>
              <a:tabLst>
                <a:tab algn="l" pos="0"/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69CC-8996-4CA3-99F5-BA9129408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99800" y="1100628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3615920" y="11006280"/>
            <a:ext cx="11062440" cy="2286000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99800" y="2294676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117F-579D-46BF-B29D-C743D74E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99800" y="11006280"/>
            <a:ext cx="11062440" cy="2286000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3615920" y="1100628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15920" y="2294676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1B28-1D96-4E9B-9009-06AF2C6E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99800" y="1100628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3615920" y="1100628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99800" y="22946760"/>
            <a:ext cx="226695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D01E-F1E4-4980-BC5B-7D580D42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r>
              <a:rPr b="0" lang="en-US" sz="17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99800" y="11006280"/>
            <a:ext cx="22669560" cy="2286000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marL="1387440" indent="-1387440">
              <a:spcBef>
                <a:spcPts val="3251"/>
              </a:spcBef>
              <a:buClr>
                <a:srgbClr val="000000"/>
              </a:buClr>
              <a:buFont typeface="Times New Roman"/>
              <a:buChar char="•"/>
              <a:tabLst>
                <a:tab algn="l" pos="3700440"/>
                <a:tab algn="l" pos="74008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 lvl="1" marL="3006720" indent="-1155600">
              <a:spcBef>
                <a:spcPts val="3251"/>
              </a:spcBef>
              <a:buClr>
                <a:srgbClr val="000000"/>
              </a:buClr>
              <a:buFont typeface="Times New Roman"/>
              <a:buChar char="–"/>
              <a:tabLst>
                <a:tab algn="l" pos="3700440"/>
                <a:tab algn="l" pos="74008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 lvl="2" marL="4626000" indent="-925560">
              <a:spcBef>
                <a:spcPts val="3251"/>
              </a:spcBef>
              <a:buClr>
                <a:srgbClr val="000000"/>
              </a:buClr>
              <a:buFont typeface="Times New Roman"/>
              <a:buChar char="•"/>
              <a:tabLst>
                <a:tab algn="l" pos="3700440"/>
                <a:tab algn="l" pos="74008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 lvl="3" marL="6477120" indent="-925560">
              <a:spcBef>
                <a:spcPts val="3251"/>
              </a:spcBef>
              <a:buClr>
                <a:srgbClr val="000000"/>
              </a:buClr>
              <a:buFont typeface="Times New Roman"/>
              <a:buChar char="–"/>
              <a:tabLst>
                <a:tab algn="l" pos="3700440"/>
                <a:tab algn="l" pos="74008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 lvl="4" marL="8327880" indent="-925200">
              <a:spcBef>
                <a:spcPts val="3251"/>
              </a:spcBef>
              <a:buClr>
                <a:srgbClr val="000000"/>
              </a:buClr>
              <a:buFont typeface="Times New Roman"/>
              <a:buChar char="»"/>
              <a:tabLst>
                <a:tab algn="l" pos="3700440"/>
                <a:tab algn="l" pos="74008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 lvl="5" marL="8327880" indent="-925200">
              <a:spcBef>
                <a:spcPts val="3251"/>
              </a:spcBef>
              <a:buClr>
                <a:srgbClr val="000000"/>
              </a:buClr>
              <a:buFont typeface="Times New Roman"/>
              <a:buChar char="»"/>
              <a:tabLst>
                <a:tab algn="l" pos="3700440"/>
                <a:tab algn="l" pos="74008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 lvl="6" marL="8327880" indent="-925200">
              <a:spcBef>
                <a:spcPts val="3251"/>
              </a:spcBef>
              <a:buClr>
                <a:srgbClr val="000000"/>
              </a:buClr>
              <a:buFont typeface="Times New Roman"/>
              <a:buChar char="»"/>
              <a:tabLst>
                <a:tab algn="l" pos="3700440"/>
                <a:tab algn="l" pos="74008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000160" y="34713720"/>
            <a:ext cx="5556240" cy="254016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Autofit/>
          </a:bodyPr>
          <a:lstStyle>
            <a:lvl1pPr indent="0">
              <a:buNone/>
              <a:tabLst>
                <a:tab algn="l" pos="0"/>
                <a:tab algn="l" pos="3700440"/>
                <a:tab algn="l" pos="7400880"/>
              </a:tabLst>
              <a:defRPr b="0" lang="en-US" sz="5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700440"/>
                <a:tab algn="l" pos="74008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112320" y="34713720"/>
            <a:ext cx="8445600" cy="254016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Autofit/>
          </a:bodyPr>
          <a:lstStyle>
            <a:lvl1pPr indent="0" algn="ctr">
              <a:buNone/>
              <a:tabLst>
                <a:tab algn="l" pos="0"/>
                <a:tab algn="l" pos="3700440"/>
                <a:tab algn="l" pos="7400880"/>
              </a:tabLst>
              <a:defRPr b="0" lang="en-US" sz="5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9113480" y="34713720"/>
            <a:ext cx="5556240" cy="254016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Autofit/>
          </a:bodyPr>
          <a:lstStyle>
            <a:lvl1pPr indent="0" algn="r">
              <a:buNone/>
              <a:tabLst>
                <a:tab algn="l" pos="0"/>
                <a:tab algn="l" pos="3700440"/>
                <a:tab algn="l" pos="7400880"/>
              </a:tabLst>
              <a:defRPr b="0" lang="en-US" sz="5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700440"/>
                <a:tab algn="l" pos="7400880"/>
              </a:tabLst>
            </a:pPr>
            <a:fld id="{FDA99CD2-A110-40E2-BAEE-9B66C846A606}" type="slidenum">
              <a:rPr b="0" lang="en-US" sz="5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00200" y="7010280"/>
            <a:ext cx="25069680" cy="2920320"/>
            <a:chOff x="1600200" y="7010280"/>
            <a:chExt cx="25069680" cy="2920320"/>
          </a:xfrm>
        </p:grpSpPr>
        <p:sp>
          <p:nvSpPr>
            <p:cNvPr id="42" name=""/>
            <p:cNvSpPr/>
            <p:nvPr/>
          </p:nvSpPr>
          <p:spPr>
            <a:xfrm>
              <a:off x="1600200" y="7010280"/>
              <a:ext cx="240030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700" spc="-1" strike="noStrike">
                  <a:solidFill>
                    <a:srgbClr val="000000"/>
                  </a:solidFill>
                  <a:latin typeface="Comic Sans MS"/>
                </a:rPr>
                <a:t>Composición de colores</a:t>
              </a:r>
              <a:endParaRPr b="0" lang="en-US" sz="1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752480" y="9105480"/>
              <a:ext cx="24917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Comic Sans MS"/>
                </a:rPr>
                <a:t>PARA PENSAR: </a:t>
              </a:r>
              <a:r>
                <a:rPr b="1" lang="en-US" sz="4800" spc="-1" strike="noStrike">
                  <a:solidFill>
                    <a:srgbClr val="000000"/>
                  </a:solidFill>
                  <a:latin typeface="Comic Sans MS"/>
                </a:rPr>
                <a:t>¿El color es una propiedad del objeto o de la luz que lo ilumina?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1752480" y="6248520"/>
            <a:ext cx="233172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10972800"/>
            <a:ext cx="233172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25374600"/>
            <a:ext cx="233172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829800" y="2895480"/>
            <a:ext cx="98298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11658600"/>
            <a:ext cx="25793640" cy="12902760"/>
            <a:chOff x="0" y="11658600"/>
            <a:chExt cx="25793640" cy="12902760"/>
          </a:xfrm>
        </p:grpSpPr>
        <p:grpSp>
          <p:nvGrpSpPr>
            <p:cNvPr id="49" name=""/>
            <p:cNvGrpSpPr/>
            <p:nvPr/>
          </p:nvGrpSpPr>
          <p:grpSpPr>
            <a:xfrm>
              <a:off x="1943280" y="15613200"/>
              <a:ext cx="23850360" cy="1817280"/>
              <a:chOff x="1943280" y="15613200"/>
              <a:chExt cx="23850360" cy="1817280"/>
            </a:xfrm>
          </p:grpSpPr>
          <p:grpSp>
            <p:nvGrpSpPr>
              <p:cNvPr id="50" name=""/>
              <p:cNvGrpSpPr/>
              <p:nvPr/>
            </p:nvGrpSpPr>
            <p:grpSpPr>
              <a:xfrm>
                <a:off x="2239920" y="16406640"/>
                <a:ext cx="22960080" cy="228600"/>
                <a:chOff x="2239920" y="16406640"/>
                <a:chExt cx="22960080" cy="22860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2239920" y="16406640"/>
                  <a:ext cx="229600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2462760" y="164066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3948480" y="164066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434920" y="164066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921000" y="164066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9893160" y="164066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8406720" y="164066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11379240" y="164066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12865320" y="164066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14351400" y="164066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15837480" y="164066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8809640" y="164066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7323560" y="164066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21781800" y="164066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20295720" y="164066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23267880" y="164066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24753960" y="164066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" name=""/>
              <p:cNvSpPr/>
              <p:nvPr/>
            </p:nvSpPr>
            <p:spPr>
              <a:xfrm>
                <a:off x="1943280" y="15644880"/>
                <a:ext cx="1039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af0000"/>
                    </a:solidFill>
                    <a:latin typeface="Arial Unicode MS"/>
                  </a:rPr>
                  <a:t> </a:t>
                </a:r>
                <a:r>
                  <a:rPr b="0" lang="es-ES" sz="3600" spc="-1" strike="noStrike">
                    <a:solidFill>
                      <a:srgbClr val="000000"/>
                    </a:solidFill>
                    <a:latin typeface="Arial Unicode MS"/>
                  </a:rPr>
                  <a:t>10</a:t>
                </a:r>
                <a:r>
                  <a:rPr b="0" lang="es-ES" sz="3600" spc="-1" strike="noStrike" baseline="30000">
                    <a:solidFill>
                      <a:srgbClr val="000000"/>
                    </a:solidFill>
                    <a:latin typeface="Arial Unicode MS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429000" y="15644880"/>
                <a:ext cx="1039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af0000"/>
                    </a:solidFill>
                    <a:latin typeface="Arial Unicode MS"/>
                  </a:rPr>
                  <a:t> </a:t>
                </a:r>
                <a:r>
                  <a:rPr b="0" lang="es-ES" sz="3600" spc="-1" strike="noStrike">
                    <a:solidFill>
                      <a:srgbClr val="000000"/>
                    </a:solidFill>
                    <a:latin typeface="Arial Unicode MS"/>
                  </a:rPr>
                  <a:t>10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Arial Unicode MS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915080" y="15644880"/>
                <a:ext cx="1039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af0000"/>
                    </a:solidFill>
                    <a:latin typeface="Arial Unicode MS"/>
                  </a:rPr>
                  <a:t> </a:t>
                </a:r>
                <a:r>
                  <a:rPr b="0" lang="es-ES" sz="3600" spc="-1" strike="noStrike">
                    <a:solidFill>
                      <a:srgbClr val="000000"/>
                    </a:solidFill>
                    <a:latin typeface="Arial Unicode MS"/>
                  </a:rPr>
                  <a:t>10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Arial Unicode MS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605640" y="15644880"/>
                <a:ext cx="1039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af0000"/>
                    </a:solidFill>
                    <a:latin typeface="Arial Unicode MS"/>
                  </a:rPr>
                  <a:t> </a:t>
                </a:r>
                <a:r>
                  <a:rPr b="0" lang="es-ES" sz="3600" spc="-1" strike="noStrike">
                    <a:solidFill>
                      <a:srgbClr val="000000"/>
                    </a:solidFill>
                    <a:latin typeface="Arial Unicode MS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886880" y="15644880"/>
                <a:ext cx="1257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af0000"/>
                    </a:solidFill>
                    <a:latin typeface="Arial Unicode MS"/>
                  </a:rPr>
                  <a:t> </a:t>
                </a:r>
                <a:r>
                  <a:rPr b="0" lang="es-ES" sz="3600" spc="-1" strike="noStrike">
                    <a:solidFill>
                      <a:srgbClr val="000000"/>
                    </a:solidFill>
                    <a:latin typeface="Arial Unicode MS"/>
                  </a:rPr>
                  <a:t>10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Arial Unicode MS"/>
                  </a:rPr>
                  <a:t>-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9372600" y="15644880"/>
                <a:ext cx="121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af0000"/>
                    </a:solidFill>
                    <a:latin typeface="Arial Unicode MS"/>
                  </a:rPr>
                  <a:t> </a:t>
                </a:r>
                <a:r>
                  <a:rPr b="0" lang="es-ES" sz="3600" spc="-1" strike="noStrike">
                    <a:solidFill>
                      <a:srgbClr val="000000"/>
                    </a:solidFill>
                    <a:latin typeface="Arial Unicode MS"/>
                  </a:rPr>
                  <a:t>10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Arial Unicode MS"/>
                  </a:rPr>
                  <a:t>-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0858680" y="15644880"/>
                <a:ext cx="1333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af0000"/>
                    </a:solidFill>
                    <a:latin typeface="Arial Unicode MS"/>
                  </a:rPr>
                  <a:t> </a:t>
                </a:r>
                <a:r>
                  <a:rPr b="0" lang="es-ES" sz="3600" spc="-1" strike="noStrike">
                    <a:solidFill>
                      <a:srgbClr val="000000"/>
                    </a:solidFill>
                    <a:latin typeface="Arial Unicode MS"/>
                  </a:rPr>
                  <a:t>10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Arial Unicode MS"/>
                  </a:rPr>
                  <a:t>-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2345840" y="15644880"/>
                <a:ext cx="1217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af0000"/>
                    </a:solidFill>
                    <a:latin typeface="Arial Unicode MS"/>
                  </a:rPr>
                  <a:t> </a:t>
                </a:r>
                <a:r>
                  <a:rPr b="0" lang="es-ES" sz="3600" spc="-1" strike="noStrike">
                    <a:solidFill>
                      <a:srgbClr val="000000"/>
                    </a:solidFill>
                    <a:latin typeface="Arial Unicode MS"/>
                  </a:rPr>
                  <a:t>10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Arial Unicode MS"/>
                  </a:rPr>
                  <a:t>-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3831920" y="15644880"/>
                <a:ext cx="1255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af0000"/>
                    </a:solidFill>
                    <a:latin typeface="Arial Unicode MS"/>
                  </a:rPr>
                  <a:t> </a:t>
                </a:r>
                <a:r>
                  <a:rPr b="0" lang="es-ES" sz="3600" spc="-1" strike="noStrike">
                    <a:solidFill>
                      <a:srgbClr val="000000"/>
                    </a:solidFill>
                    <a:latin typeface="Arial Unicode MS"/>
                  </a:rPr>
                  <a:t>10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Arial Unicode MS"/>
                  </a:rPr>
                  <a:t>-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5317640" y="15644880"/>
                <a:ext cx="1370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af0000"/>
                    </a:solidFill>
                    <a:latin typeface="Arial Unicode MS"/>
                  </a:rPr>
                  <a:t> </a:t>
                </a:r>
                <a:r>
                  <a:rPr b="0" lang="es-ES" sz="3600" spc="-1" strike="noStrike">
                    <a:solidFill>
                      <a:srgbClr val="000000"/>
                    </a:solidFill>
                    <a:latin typeface="Arial Unicode MS"/>
                  </a:rPr>
                  <a:t>10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Arial Unicode MS"/>
                  </a:rPr>
                  <a:t>-6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6803720" y="15644880"/>
                <a:ext cx="1332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af0000"/>
                    </a:solidFill>
                    <a:latin typeface="Arial Unicode MS"/>
                  </a:rPr>
                  <a:t> </a:t>
                </a:r>
                <a:r>
                  <a:rPr b="0" lang="es-ES" sz="3600" spc="-1" strike="noStrike">
                    <a:solidFill>
                      <a:srgbClr val="000000"/>
                    </a:solidFill>
                    <a:latin typeface="Arial Unicode MS"/>
                  </a:rPr>
                  <a:t>10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Arial Unicode MS"/>
                  </a:rPr>
                  <a:t>-7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8289440" y="15644880"/>
                <a:ext cx="1293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af0000"/>
                    </a:solidFill>
                    <a:latin typeface="Arial Unicode MS"/>
                  </a:rPr>
                  <a:t> </a:t>
                </a:r>
                <a:r>
                  <a:rPr b="0" lang="es-ES" sz="3600" spc="-1" strike="noStrike">
                    <a:solidFill>
                      <a:srgbClr val="000000"/>
                    </a:solidFill>
                    <a:latin typeface="Arial Unicode MS"/>
                  </a:rPr>
                  <a:t>10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Arial Unicode MS"/>
                  </a:rPr>
                  <a:t>-8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9775520" y="15613200"/>
                <a:ext cx="1485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af0000"/>
                    </a:solidFill>
                    <a:latin typeface="Arial Unicode MS"/>
                  </a:rPr>
                  <a:t> </a:t>
                </a:r>
                <a:r>
                  <a:rPr b="0" lang="es-ES" sz="3600" spc="-1" strike="noStrike">
                    <a:solidFill>
                      <a:srgbClr val="000000"/>
                    </a:solidFill>
                    <a:latin typeface="Arial Unicode MS"/>
                  </a:rPr>
                  <a:t>10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Arial Unicode MS"/>
                  </a:rPr>
                  <a:t>-9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1261240" y="15644880"/>
                <a:ext cx="1708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af0000"/>
                    </a:solidFill>
                    <a:latin typeface="Arial Unicode MS"/>
                  </a:rPr>
                  <a:t> </a:t>
                </a:r>
                <a:r>
                  <a:rPr b="0" lang="es-ES" sz="3600" spc="-1" strike="noStrike">
                    <a:solidFill>
                      <a:srgbClr val="000000"/>
                    </a:solidFill>
                    <a:latin typeface="Arial Unicode MS"/>
                  </a:rPr>
                  <a:t>10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Arial Unicode MS"/>
                  </a:rPr>
                  <a:t>-1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2747320" y="15613200"/>
                <a:ext cx="1411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af0000"/>
                    </a:solidFill>
                    <a:latin typeface="Arial Unicode MS"/>
                  </a:rPr>
                  <a:t> </a:t>
                </a:r>
                <a:r>
                  <a:rPr b="0" lang="es-ES" sz="3600" spc="-1" strike="noStrike">
                    <a:solidFill>
                      <a:srgbClr val="000000"/>
                    </a:solidFill>
                    <a:latin typeface="Arial Unicode MS"/>
                  </a:rPr>
                  <a:t>10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Arial Unicode MS"/>
                  </a:rPr>
                  <a:t>-1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4233040" y="15644880"/>
                <a:ext cx="1560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af0000"/>
                    </a:solidFill>
                    <a:latin typeface="Arial Unicode MS"/>
                  </a:rPr>
                  <a:t> </a:t>
                </a:r>
                <a:r>
                  <a:rPr b="0" lang="es-ES" sz="3600" spc="-1" strike="noStrike">
                    <a:solidFill>
                      <a:srgbClr val="000000"/>
                    </a:solidFill>
                    <a:latin typeface="Arial Unicode MS"/>
                  </a:rPr>
                  <a:t>10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Arial Unicode MS"/>
                  </a:rPr>
                  <a:t>-1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9968040" y="16787880"/>
                <a:ext cx="8396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Longitud de onda (en metros)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>
              <a:off x="228600" y="13092120"/>
              <a:ext cx="883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Tamaño de la longitud de ond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9531080"/>
              <a:ext cx="716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Ejemplo de fuent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981080" y="11658600"/>
              <a:ext cx="10820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Comic Sans MS"/>
                </a:rPr>
                <a:t>PARA EMPEZAR A ENTENDER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2916080" y="11696760"/>
              <a:ext cx="1066680" cy="685800"/>
            </a:xfrm>
            <a:prstGeom prst="rightArrow">
              <a:avLst>
                <a:gd name="adj1" fmla="val 50000"/>
                <a:gd name="adj2" fmla="val 38885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563720" y="11658600"/>
              <a:ext cx="95248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omic Sans MS"/>
                </a:rPr>
                <a:t>¿QUÉ ES LA LUZ?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324160" y="17411760"/>
              <a:ext cx="6019920" cy="914400"/>
            </a:xfrm>
            <a:prstGeom prst="leftArrow">
              <a:avLst>
                <a:gd name="adj1" fmla="val 50000"/>
                <a:gd name="adj2" fmla="val 16458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229280" y="17621280"/>
              <a:ext cx="320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ndas de radi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267760" y="18612000"/>
              <a:ext cx="4876920" cy="45720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877240" y="18535680"/>
              <a:ext cx="36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Micro-ond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1163240" y="17640360"/>
              <a:ext cx="5105520" cy="45720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2306240" y="17554680"/>
              <a:ext cx="373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Infrarroj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573680" y="17640360"/>
              <a:ext cx="2286000" cy="45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6316280" y="1759284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Ultraviolet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554760" y="18631080"/>
              <a:ext cx="3276720" cy="45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757575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8173880" y="18583200"/>
              <a:ext cx="449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ayos X bland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1221640" y="17411760"/>
              <a:ext cx="3733920" cy="876240"/>
            </a:xfrm>
            <a:prstGeom prst="rightArrow">
              <a:avLst>
                <a:gd name="adj1" fmla="val 50000"/>
                <a:gd name="adj2" fmla="val 106532"/>
              </a:avLst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0383560" y="17564040"/>
              <a:ext cx="449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ayos X dur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3203080" y="18402480"/>
              <a:ext cx="2209680" cy="838080"/>
            </a:xfrm>
            <a:prstGeom prst="rightArrow">
              <a:avLst>
                <a:gd name="adj1" fmla="val 50000"/>
                <a:gd name="adj2" fmla="val 65915"/>
              </a:avLst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745880" y="18535680"/>
              <a:ext cx="243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ayos Gam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6230600" y="1764036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1087280" y="22364640"/>
              <a:ext cx="10439280" cy="1067040"/>
            </a:xfrm>
            <a:prstGeom prst="rect">
              <a:avLst/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16040160" y="18097560"/>
              <a:ext cx="838080" cy="4190760"/>
              <a:chOff x="16040160" y="18097560"/>
              <a:chExt cx="838080" cy="4190760"/>
            </a:xfrm>
          </p:grpSpPr>
          <p:sp>
            <p:nvSpPr>
              <p:cNvPr id="107" name=""/>
              <p:cNvSpPr/>
              <p:nvPr/>
            </p:nvSpPr>
            <p:spPr>
              <a:xfrm rot="5400000">
                <a:off x="14363640" y="19773720"/>
                <a:ext cx="4190760" cy="838080"/>
              </a:xfrm>
              <a:prstGeom prst="rightArrow">
                <a:avLst>
                  <a:gd name="adj1" fmla="val 50000"/>
                  <a:gd name="adj2" fmla="val 125011"/>
                </a:avLst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5400000">
                <a:off x="14709960" y="19706040"/>
                <a:ext cx="3511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Visibl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09" name="estadio" descr=""/>
            <p:cNvPicPr/>
            <p:nvPr/>
          </p:nvPicPr>
          <p:blipFill>
            <a:blip r:embed="rId1"/>
            <a:stretch/>
          </p:blipFill>
          <p:spPr>
            <a:xfrm>
              <a:off x="2476440" y="14135040"/>
              <a:ext cx="2362320" cy="134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ersona" descr=""/>
            <p:cNvPicPr/>
            <p:nvPr/>
          </p:nvPicPr>
          <p:blipFill>
            <a:blip r:embed="rId2"/>
            <a:stretch/>
          </p:blipFill>
          <p:spPr>
            <a:xfrm>
              <a:off x="5600880" y="14135040"/>
              <a:ext cx="965160" cy="125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elota" descr=""/>
            <p:cNvPicPr/>
            <p:nvPr/>
          </p:nvPicPr>
          <p:blipFill>
            <a:blip r:embed="rId3"/>
            <a:stretch/>
          </p:blipFill>
          <p:spPr>
            <a:xfrm>
              <a:off x="7201080" y="1421136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mosca" descr=""/>
            <p:cNvPicPr/>
            <p:nvPr/>
          </p:nvPicPr>
          <p:blipFill>
            <a:blip r:embed="rId4"/>
            <a:stretch/>
          </p:blipFill>
          <p:spPr>
            <a:xfrm>
              <a:off x="9296280" y="14059080"/>
              <a:ext cx="1041480" cy="12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celula" descr=""/>
            <p:cNvPicPr/>
            <p:nvPr/>
          </p:nvPicPr>
          <p:blipFill>
            <a:blip r:embed="rId5"/>
            <a:stretch/>
          </p:blipFill>
          <p:spPr>
            <a:xfrm>
              <a:off x="12916080" y="14135040"/>
              <a:ext cx="132048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2552760" y="13601880"/>
              <a:ext cx="220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stadi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295960" y="1360188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erson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896160" y="1360188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elot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877240" y="13601880"/>
              <a:ext cx="190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mosc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2534840" y="1360188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élul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9" name="bacteria" descr=""/>
            <p:cNvPicPr/>
            <p:nvPr/>
          </p:nvPicPr>
          <p:blipFill>
            <a:blip r:embed="rId6"/>
            <a:stretch/>
          </p:blipFill>
          <p:spPr>
            <a:xfrm>
              <a:off x="15887880" y="1413504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15659280" y="1361592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acteri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1" name="proteina" descr=""/>
            <p:cNvPicPr/>
            <p:nvPr/>
          </p:nvPicPr>
          <p:blipFill>
            <a:blip r:embed="rId7"/>
            <a:stretch/>
          </p:blipFill>
          <p:spPr>
            <a:xfrm>
              <a:off x="18783360" y="14211360"/>
              <a:ext cx="1434960" cy="103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18631080" y="1360188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roteín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3" name="molecula" descr=""/>
            <p:cNvPicPr/>
            <p:nvPr/>
          </p:nvPicPr>
          <p:blipFill>
            <a:blip r:embed="rId8"/>
            <a:stretch/>
          </p:blipFill>
          <p:spPr>
            <a:xfrm>
              <a:off x="20764440" y="14135040"/>
              <a:ext cx="110988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20510640" y="1363968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molécul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71880" y="23736240"/>
              <a:ext cx="22783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omic Sans MS"/>
                </a:rPr>
                <a:t>En general se llama LUZ a la porción visible del espectro electromagnético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009960" y="20345400"/>
              <a:ext cx="0" cy="76212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210360" y="20345400"/>
              <a:ext cx="0" cy="76212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962840" y="20345400"/>
              <a:ext cx="0" cy="76212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287000" y="20345400"/>
              <a:ext cx="0" cy="76212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4973480" y="20307240"/>
              <a:ext cx="0" cy="76212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469160" y="20345400"/>
              <a:ext cx="0" cy="76212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983760" y="20345400"/>
              <a:ext cx="0" cy="76212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3355360" y="20345400"/>
              <a:ext cx="0" cy="76212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324160" y="21069360"/>
              <a:ext cx="1409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adioA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029200" y="2114568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V, F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705720" y="21069360"/>
              <a:ext cx="2590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Horno Microond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639360" y="2114568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ada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135720" y="21031200"/>
              <a:ext cx="281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incrotró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1145680" y="21069360"/>
              <a:ext cx="1981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quipo de Rayos 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2898160" y="21107520"/>
              <a:ext cx="2514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lementos radiactiv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6497360" y="19469160"/>
              <a:ext cx="2362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ol Lámpar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3639680" y="21145680"/>
              <a:ext cx="2743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bjetos calient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1600200" y="26674920"/>
            <a:ext cx="23622120" cy="7387920"/>
            <a:chOff x="1600200" y="26674920"/>
            <a:chExt cx="23622120" cy="7387920"/>
          </a:xfrm>
        </p:grpSpPr>
        <p:sp>
          <p:nvSpPr>
            <p:cNvPr id="144" name=""/>
            <p:cNvSpPr/>
            <p:nvPr/>
          </p:nvSpPr>
          <p:spPr>
            <a:xfrm>
              <a:off x="1600200" y="26750880"/>
              <a:ext cx="9296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Comic Sans MS"/>
                </a:rPr>
                <a:t>SIGUEN LAS DUDAS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5" name="respuesta_ojo" descr=""/>
            <p:cNvPicPr/>
            <p:nvPr/>
          </p:nvPicPr>
          <p:blipFill>
            <a:blip r:embed="rId9"/>
            <a:stretch/>
          </p:blipFill>
          <p:spPr>
            <a:xfrm>
              <a:off x="3352680" y="28046520"/>
              <a:ext cx="6858000" cy="5179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6" name=""/>
            <p:cNvGrpSpPr/>
            <p:nvPr/>
          </p:nvGrpSpPr>
          <p:grpSpPr>
            <a:xfrm>
              <a:off x="3340080" y="28020960"/>
              <a:ext cx="6870600" cy="5257800"/>
              <a:chOff x="3340080" y="28020960"/>
              <a:chExt cx="6870600" cy="5257800"/>
            </a:xfrm>
          </p:grpSpPr>
          <p:sp>
            <p:nvSpPr>
              <p:cNvPr id="147" name=""/>
              <p:cNvSpPr/>
              <p:nvPr/>
            </p:nvSpPr>
            <p:spPr>
              <a:xfrm>
                <a:off x="3340080" y="28020960"/>
                <a:ext cx="0" cy="52578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352680" y="33266160"/>
                <a:ext cx="68580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11277720" y="26750880"/>
              <a:ext cx="1066680" cy="685800"/>
            </a:xfrm>
            <a:prstGeom prst="rightArrow">
              <a:avLst>
                <a:gd name="adj1" fmla="val 50000"/>
                <a:gd name="adj2" fmla="val 38885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868280" y="26674920"/>
              <a:ext cx="11354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omic Sans MS"/>
                </a:rPr>
                <a:t>¿COMO VEMOS LOS COLORES?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362400" y="33542280"/>
              <a:ext cx="693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ensibilidad de los tres tipos de con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1658600" y="28275120"/>
              <a:ext cx="1333512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omic Sans MS"/>
                </a:rPr>
                <a:t>Con sólo tres tipos de detectores (conos), principalmente sensibles al rojo, al verde y al azul, somos capaces de distinguir una gran variedad de colores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411080" y="32994720"/>
              <a:ext cx="9296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Comic Sans MS"/>
                </a:rPr>
                <a:t>DIFICIL DE CREER...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0" y="0"/>
            <a:ext cx="26669880" cy="7010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0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4191120" y="609480"/>
            <a:ext cx="18354240" cy="6098760"/>
            <a:chOff x="4191120" y="609480"/>
            <a:chExt cx="18354240" cy="6098760"/>
          </a:xfrm>
        </p:grpSpPr>
        <p:pic>
          <p:nvPicPr>
            <p:cNvPr id="156" name="logoJPPc" descr=""/>
            <p:cNvPicPr/>
            <p:nvPr/>
          </p:nvPicPr>
          <p:blipFill>
            <a:blip r:embed="rId10"/>
            <a:stretch/>
          </p:blipFill>
          <p:spPr>
            <a:xfrm>
              <a:off x="10999080" y="609480"/>
              <a:ext cx="4138560" cy="393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h03" descr=""/>
            <p:cNvPicPr/>
            <p:nvPr/>
          </p:nvPicPr>
          <p:blipFill>
            <a:blip r:embed="rId11"/>
            <a:stretch/>
          </p:blipFill>
          <p:spPr>
            <a:xfrm>
              <a:off x="15756480" y="609480"/>
              <a:ext cx="6189120" cy="39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h05" descr=""/>
            <p:cNvPicPr/>
            <p:nvPr/>
          </p:nvPicPr>
          <p:blipFill>
            <a:blip r:embed="rId12"/>
            <a:stretch/>
          </p:blipFill>
          <p:spPr>
            <a:xfrm>
              <a:off x="4191120" y="609480"/>
              <a:ext cx="6189120" cy="39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4790880" y="5151240"/>
              <a:ext cx="177544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9600" spc="-1" strike="noStrike">
                  <a:solidFill>
                    <a:srgbClr val="ffffff"/>
                  </a:solidFill>
                  <a:latin typeface="Comic Sans MS"/>
                </a:rPr>
                <a:t>Semana de la Física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638360" y="2895480"/>
            <a:ext cx="66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omic Sans MS"/>
              </a:rPr>
              <a:t>OTRA PREGUN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829800" y="2743200"/>
            <a:ext cx="1508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¿Y SI MEZCLAMOS LUZ ROJA, VERDE Y AZUL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949120" y="17635680"/>
            <a:ext cx="26669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lightColors" descr=""/>
          <p:cNvPicPr/>
          <p:nvPr/>
        </p:nvPicPr>
        <p:blipFill>
          <a:blip r:embed="rId1"/>
          <a:stretch/>
        </p:blipFill>
        <p:spPr>
          <a:xfrm>
            <a:off x="3200400" y="4648320"/>
            <a:ext cx="8361360" cy="85341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7848720" y="2819520"/>
            <a:ext cx="1295280" cy="761760"/>
          </a:xfrm>
          <a:prstGeom prst="rightArrow">
            <a:avLst>
              <a:gd name="adj1" fmla="val 50000"/>
              <a:gd name="adj2" fmla="val 4250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3716000" y="5486400"/>
            <a:ext cx="10591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30200" y="4762440"/>
            <a:ext cx="113536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Sumando en proporciones adecuadas luz roja, verde y azul, podemos obtener una gran variedad de colores distintos. A este sistema se lo llama </a:t>
            </a: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R (red)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4800" spc="-1" strike="noStrike">
                <a:solidFill>
                  <a:srgbClr val="33cc33"/>
                </a:solidFill>
                <a:latin typeface="Comic Sans MS"/>
              </a:rPr>
              <a:t>G (green)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B (blue) 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y su suma da el blanco W(white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011280" y="9677520"/>
            <a:ext cx="701064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R 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1" lang="en-US" sz="4800" spc="-1" strike="noStrike">
                <a:solidFill>
                  <a:srgbClr val="33cc33"/>
                </a:solidFill>
                <a:latin typeface="Comic Sans MS"/>
              </a:rPr>
              <a:t>G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= 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R 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1" lang="en-US" sz="4800" spc="-1" strike="noStrike">
                <a:solidFill>
                  <a:srgbClr val="33cc33"/>
                </a:solidFill>
                <a:latin typeface="Comic Sans MS"/>
              </a:rPr>
              <a:t>G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Y (yellow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cc33"/>
                </a:solidFill>
                <a:latin typeface="Comic Sans MS"/>
              </a:rPr>
              <a:t>G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lang="en-US" sz="4800" spc="-1" strike="noStrike">
                <a:solidFill>
                  <a:srgbClr val="00ffff"/>
                </a:solidFill>
                <a:latin typeface="Comic Sans MS"/>
              </a:rPr>
              <a:t>C (cyan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R 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lang="en-US" sz="4800" spc="-1" strike="noStrike">
                <a:solidFill>
                  <a:srgbClr val="ff66ff"/>
                </a:solidFill>
                <a:latin typeface="Comic Sans MS"/>
              </a:rPr>
              <a:t>M (magenta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05120" y="14478120"/>
            <a:ext cx="233172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57400" y="25831800"/>
            <a:ext cx="233172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600200" y="15544800"/>
            <a:ext cx="24041160" cy="10028880"/>
            <a:chOff x="1600200" y="15544800"/>
            <a:chExt cx="24041160" cy="10028880"/>
          </a:xfrm>
        </p:grpSpPr>
        <p:sp>
          <p:nvSpPr>
            <p:cNvPr id="171" name=""/>
            <p:cNvSpPr/>
            <p:nvPr/>
          </p:nvSpPr>
          <p:spPr>
            <a:xfrm>
              <a:off x="1600200" y="15621120"/>
              <a:ext cx="6629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Comic Sans MS"/>
                </a:rPr>
                <a:t>NUEVA DUDA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467480" y="15621120"/>
              <a:ext cx="1295640" cy="761760"/>
            </a:xfrm>
            <a:prstGeom prst="rightArrow">
              <a:avLst>
                <a:gd name="adj1" fmla="val 50000"/>
                <a:gd name="adj2" fmla="val 42521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105840" y="15544800"/>
              <a:ext cx="16535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omic Sans MS"/>
                </a:rPr>
                <a:t>¿PORQUÉ SI MEZCLAMOS PINTURAS NO ES ASÍ?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2420720" y="17030880"/>
              <a:ext cx="12573000" cy="374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omic Sans MS"/>
                </a:rPr>
                <a:t>Los pigmentos actúan absorbiendo luz de determinada longitud de onda. Por ejemplo, un objeto iluminado con luz blanca se ve amarillo porque absorbe el azul y refleja el rojo y el verde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429000" y="19431000"/>
              <a:ext cx="5181480" cy="1295280"/>
            </a:xfrm>
            <a:prstGeom prst="parallelogram">
              <a:avLst>
                <a:gd name="adj" fmla="val 10000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429000" y="17449920"/>
              <a:ext cx="2514600" cy="2286000"/>
            </a:xfrm>
            <a:prstGeom prst="line">
              <a:avLst/>
            </a:prstGeom>
            <a:ln w="190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09960" y="17830800"/>
              <a:ext cx="2514600" cy="2286000"/>
            </a:xfrm>
            <a:prstGeom prst="line">
              <a:avLst/>
            </a:prstGeom>
            <a:ln w="190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05040" y="18211680"/>
              <a:ext cx="2514600" cy="2286000"/>
            </a:xfrm>
            <a:prstGeom prst="line">
              <a:avLst/>
            </a:prstGeom>
            <a:ln w="1904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6248520" y="17678160"/>
              <a:ext cx="2133360" cy="1904760"/>
            </a:xfrm>
            <a:prstGeom prst="line">
              <a:avLst/>
            </a:prstGeom>
            <a:ln w="190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5905440" y="18554760"/>
              <a:ext cx="2133720" cy="1905120"/>
            </a:xfrm>
            <a:prstGeom prst="line">
              <a:avLst/>
            </a:prstGeom>
            <a:ln w="1904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009960" y="22555080"/>
              <a:ext cx="2202192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omic Sans MS"/>
                </a:rPr>
                <a:t>Usualmente vemos los objetos iluminados con luz blanca. En este caso mezclando tintas cyan, magenta y amarillo podemos lograr una extensa gama de colores, tal como lo hacen por ejemplo las impresoras de PC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857680" y="21259800"/>
              <a:ext cx="21640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omic Sans MS"/>
                </a:rPr>
                <a:t>EL COLOR DE UN OBJETO DEPENDE DE LA LUZ QUE LO ILUMINA!!!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10729800" y="17673480"/>
            <a:ext cx="26670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523880" y="26822520"/>
            <a:ext cx="23393520" cy="9278280"/>
            <a:chOff x="1523880" y="26822520"/>
            <a:chExt cx="23393520" cy="9278280"/>
          </a:xfrm>
        </p:grpSpPr>
        <p:sp>
          <p:nvSpPr>
            <p:cNvPr id="185" name=""/>
            <p:cNvSpPr/>
            <p:nvPr/>
          </p:nvSpPr>
          <p:spPr>
            <a:xfrm>
              <a:off x="1523880" y="27050760"/>
              <a:ext cx="9448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Comic Sans MS"/>
                </a:rPr>
                <a:t>PARA TERMINAR....O EMPEZAR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2573000" y="26822520"/>
              <a:ext cx="122680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omic Sans MS"/>
                </a:rPr>
                <a:t>¿CÓMO SE CREAN LOS COLORES EN UNA PANTALLA DE TV?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1125080" y="26974800"/>
              <a:ext cx="1295280" cy="761400"/>
            </a:xfrm>
            <a:prstGeom prst="rightArrow">
              <a:avLst>
                <a:gd name="adj1" fmla="val 50000"/>
                <a:gd name="adj2" fmla="val 4253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8" name="rgbScreenComp" descr=""/>
            <p:cNvPicPr/>
            <p:nvPr/>
          </p:nvPicPr>
          <p:blipFill>
            <a:blip r:embed="rId2"/>
            <a:stretch/>
          </p:blipFill>
          <p:spPr>
            <a:xfrm>
              <a:off x="1828800" y="29336760"/>
              <a:ext cx="12801600" cy="67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16062120" y="30084480"/>
              <a:ext cx="8855280" cy="374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omic Sans MS"/>
                </a:rPr>
                <a:t>En este caso la pantalla emite luz, no la absorbe, por lo tanto con la suma adecuada de </a:t>
              </a:r>
              <a:r>
                <a:rPr b="1" lang="en-US" sz="4800" spc="-1" strike="noStrike">
                  <a:solidFill>
                    <a:srgbClr val="ff5050"/>
                  </a:solidFill>
                  <a:latin typeface="Comic Sans MS"/>
                </a:rPr>
                <a:t>R</a:t>
              </a:r>
              <a:r>
                <a:rPr b="1" lang="en-US" sz="4800" spc="-1" strike="noStrike">
                  <a:solidFill>
                    <a:srgbClr val="33cc33"/>
                  </a:solidFill>
                  <a:latin typeface="Comic Sans MS"/>
                </a:rPr>
                <a:t>G</a:t>
              </a:r>
              <a:r>
                <a:rPr b="1" lang="en-US" sz="4800" spc="-1" strike="noStrike">
                  <a:solidFill>
                    <a:srgbClr val="3333cc"/>
                  </a:solidFill>
                  <a:latin typeface="Comic Sans MS"/>
                </a:rPr>
                <a:t>B </a:t>
              </a:r>
              <a:r>
                <a:rPr b="1" lang="en-US" sz="4800" spc="-1" strike="noStrike">
                  <a:solidFill>
                    <a:srgbClr val="000000"/>
                  </a:solidFill>
                  <a:latin typeface="Comic Sans MS"/>
                </a:rPr>
                <a:t>podemos generar todos los colores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7T12:02:28Z</dcterms:created>
  <dc:creator>Windows 98</dc:creator>
  <dc:description/>
  <dc:language>en-US</dc:language>
  <cp:lastModifiedBy>Usuario</cp:lastModifiedBy>
  <cp:lastPrinted>2002-06-06T12:49:56Z</cp:lastPrinted>
  <dcterms:modified xsi:type="dcterms:W3CDTF">2005-05-13T14:05:46Z</dcterms:modified>
  <cp:revision>39</cp:revision>
  <dc:subject/>
  <dc:title>Sin título de diapositiva</dc:title>
</cp:coreProperties>
</file>