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6668413" cy="38098413"/>
  <p:notesSz cx="24293513" cy="35093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746-3FC4-4D4D-B340-A5AE0897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3E13-40BA-4380-A411-0FFD7A32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143-E80F-4DF3-9D02-87880302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66456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32932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9980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66456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32932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6A6-6D28-4D8F-9A0A-6EBC8ED0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6E0F-610C-49D4-86BC-68671F0A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9DF-AD97-4CB3-904D-FB822694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05D-B384-455A-955A-82D0C995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A7D2-F3EA-45FD-A66D-CE38D31D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99800" y="3385800"/>
            <a:ext cx="22669560" cy="294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BC90-7D76-4745-800D-6F845A3E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553-44A9-4B67-819B-81D35C92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3269-D176-4611-90B6-9972247D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2A52-B968-4684-8D4C-7DC542EC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e5ff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17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marL="1387440" indent="-138744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6720" indent="-115560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2" marL="462600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3" marL="647712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4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5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6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016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12320" y="34713720"/>
            <a:ext cx="844560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ct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11348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700440"/>
                <a:tab algn="l" pos="7400880"/>
              </a:tabLst>
            </a:pPr>
            <a:fld id="{975A7015-52D5-42EA-A866-D965AC07380D}" type="slidenum"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n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e5ff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9906120"/>
            <a:ext cx="2400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nducción Magnétic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953880"/>
            <a:ext cx="2491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PARA PENS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Comic Sans MS"/>
              </a:rPr>
              <a:t>¿Qué pasa cuando un imán cae por un tubo metálico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0878920"/>
            <a:ext cx="108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PARA EMPEZAR A ENTEN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922032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3012280"/>
            <a:ext cx="1562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Cómo son las líneas de campo magnético del imá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7889200"/>
            <a:ext cx="146304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33cc"/>
                </a:solidFill>
                <a:latin typeface="Comic Sans MS"/>
              </a:rPr>
              <a:t>Observemos la </a:t>
            </a:r>
            <a:r>
              <a:rPr b="1" lang="es-ES_tradnl" sz="4800" spc="-1" strike="noStrike">
                <a:solidFill>
                  <a:srgbClr val="3333cc"/>
                </a:solidFill>
                <a:latin typeface="Comic Sans MS"/>
              </a:rPr>
              <a:t>ley de Faraday</a:t>
            </a:r>
            <a:r>
              <a:rPr b="0" lang="es-ES_tradnl" sz="4800" spc="-1" strike="noStrike">
                <a:solidFill>
                  <a:srgbClr val="3333cc"/>
                </a:solidFill>
                <a:latin typeface="Comic Sans MS"/>
              </a:rPr>
              <a:t> (en la bobina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0000"/>
                </a:solidFill>
                <a:uFillTx/>
                <a:latin typeface="Comic Sans MS"/>
              </a:rPr>
              <a:t>Al variar en el tiempo el campo magnético que pasa a través de una bobina, se observa una fuerza electromotriz (fem) induci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828800" y="32918400"/>
            <a:ext cx="9648360" cy="3781440"/>
            <a:chOff x="1828800" y="32918400"/>
            <a:chExt cx="9648360" cy="3781440"/>
          </a:xfrm>
        </p:grpSpPr>
        <p:graphicFrame>
          <p:nvGraphicFramePr>
            <p:cNvPr id="48" name=""/>
            <p:cNvGraphicFramePr/>
            <p:nvPr/>
          </p:nvGraphicFramePr>
          <p:xfrm>
            <a:off x="5638680" y="32918400"/>
            <a:ext cx="2190240" cy="3781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32918400"/>
                      <a:ext cx="2190240" cy="37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8457840" y="32918400"/>
            <a:ext cx="3019320" cy="373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457840" y="32918400"/>
                      <a:ext cx="3019320" cy="373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" name=""/>
            <p:cNvGraphicFramePr/>
            <p:nvPr/>
          </p:nvGraphicFramePr>
          <p:xfrm>
            <a:off x="1828800" y="32918400"/>
            <a:ext cx="3065400" cy="373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28800" y="32918400"/>
                      <a:ext cx="3065400" cy="373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" name=""/>
          <p:cNvSpPr/>
          <p:nvPr/>
        </p:nvSpPr>
        <p:spPr>
          <a:xfrm>
            <a:off x="16992720" y="20954880"/>
            <a:ext cx="921996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Comic Sans MS"/>
              </a:rPr>
              <a:t>Ley de Lenz</a:t>
            </a:r>
            <a:r>
              <a:rPr b="0" lang="es-ES_tradnl" sz="4800" spc="-1" strike="noStrike">
                <a:solidFill>
                  <a:srgbClr val="3333cc"/>
                </a:solidFill>
                <a:latin typeface="Comic Sans MS"/>
              </a:rPr>
              <a:t>: corrientes inducidas (en el tubo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0000"/>
                </a:solidFill>
                <a:uFillTx/>
                <a:latin typeface="Comic Sans MS"/>
              </a:rPr>
              <a:t>Las corrientes inducidas generan un campo magnético contrario al del im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0000"/>
                </a:solidFill>
                <a:uFillTx/>
                <a:latin typeface="Comic Sans MS"/>
              </a:rPr>
              <a:t>Se establece así una fuerza repulsiva que frena al imá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9486720" y="31013280"/>
            <a:ext cx="1143000" cy="106704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16517880"/>
            <a:ext cx="1203984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Qué observamos cuando hacemos caer algún objeto por el interior de un tub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Cae distinto si se trata de un imán “débil” o “muy intenso”? Qué vemo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554080" y="16716240"/>
            <a:ext cx="1158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Importa si el tubo es metálico o plástic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Cambia algo si el tubo es de otro metal, o de otro diámetro o espeso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915400" y="15527160"/>
            <a:ext cx="990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GUÍA PARA EL CURIOS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362320" y="24003000"/>
          <a:ext cx="4603680" cy="353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24003000"/>
                    <a:ext cx="460368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352680" y="36880920"/>
            <a:ext cx="6667560" cy="657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341640" y="26746200"/>
            <a:ext cx="4341240" cy="7182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(z)= (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)/(2 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24079320"/>
            <a:ext cx="742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Para un imán de momento magnético m, la intensidad del campo magné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n el eje z se puede calcul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07320" y="36880920"/>
            <a:ext cx="5589360" cy="7182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(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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) x f(V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887200" y="33299280"/>
            <a:ext cx="336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sta es la señal (voltaje) que pode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edir con la computa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153162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2026908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59400" y="26212680"/>
            <a:ext cx="80773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e observa que la fuerza 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) será más grande cuanto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ás conductor sea el tub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ás gruesa sea su pa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ás pequeño sea su ra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7619760" y="21945600"/>
            <a:ext cx="609480" cy="1066680"/>
          </a:xfrm>
          <a:custGeom>
            <a:avLst/>
            <a:gdLst>
              <a:gd name="textAreaLeft" fmla="*/ 95040 w 609480"/>
              <a:gd name="textAreaRight" fmla="*/ 533520 w 6094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544800" y="30937320"/>
            <a:ext cx="1143000" cy="106668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0667880" y="34366320"/>
            <a:ext cx="990720" cy="10666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0937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</a:rPr>
              <a:t>Cuando el imán se acerca a la bobina, cambia el flujo magnético en el tiempo y se produce la f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8516600" y="29108520"/>
            <a:ext cx="7454160" cy="7197480"/>
            <a:chOff x="18516600" y="29108520"/>
            <a:chExt cx="7454160" cy="7197480"/>
          </a:xfrm>
        </p:grpSpPr>
        <p:graphicFrame>
          <p:nvGraphicFramePr>
            <p:cNvPr id="74" name=""/>
            <p:cNvGraphicFramePr/>
            <p:nvPr/>
          </p:nvGraphicFramePr>
          <p:xfrm>
            <a:off x="18516600" y="29108520"/>
            <a:ext cx="7197840" cy="71974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8516600" y="29108520"/>
                      <a:ext cx="7197840" cy="71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24002280" y="34747200"/>
              <a:ext cx="1968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Camp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magnétic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induci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897480" y="34975800"/>
              <a:ext cx="2036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Corrient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inducid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1336120" y="34441920"/>
              <a:ext cx="533160" cy="129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2860000" y="35127720"/>
              <a:ext cx="914400" cy="8377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2250520" y="29336760"/>
              <a:ext cx="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263480" y="29489400"/>
              <a:ext cx="68976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4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057400" y="1371600"/>
            <a:ext cx="23317200" cy="7576920"/>
            <a:chOff x="2057400" y="1371600"/>
            <a:chExt cx="23317200" cy="7576920"/>
          </a:xfrm>
        </p:grpSpPr>
        <p:pic>
          <p:nvPicPr>
            <p:cNvPr id="83" name="logoJPPc" descr=""/>
            <p:cNvPicPr/>
            <p:nvPr/>
          </p:nvPicPr>
          <p:blipFill>
            <a:blip r:embed="rId12"/>
            <a:stretch/>
          </p:blipFill>
          <p:spPr>
            <a:xfrm>
              <a:off x="10706040" y="1371600"/>
              <a:ext cx="5257800" cy="521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h03" descr=""/>
            <p:cNvPicPr/>
            <p:nvPr/>
          </p:nvPicPr>
          <p:blipFill>
            <a:blip r:embed="rId13"/>
            <a:stretch/>
          </p:blipFill>
          <p:spPr>
            <a:xfrm>
              <a:off x="16749720" y="1371600"/>
              <a:ext cx="7862760" cy="521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h05" descr=""/>
            <p:cNvPicPr/>
            <p:nvPr/>
          </p:nvPicPr>
          <p:blipFill>
            <a:blip r:embed="rId14"/>
            <a:stretch/>
          </p:blipFill>
          <p:spPr>
            <a:xfrm>
              <a:off x="2057400" y="1371600"/>
              <a:ext cx="7862760" cy="521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819520" y="7391520"/>
              <a:ext cx="22555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9600" spc="-1" strike="noStrike">
                  <a:solidFill>
                    <a:srgbClr val="ffffff"/>
                  </a:solidFill>
                  <a:latin typeface="Comic Sans MS"/>
                </a:rPr>
                <a:t>Semana de la Física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7T12:02:28Z</dcterms:created>
  <dc:creator>Windows 98</dc:creator>
  <dc:description/>
  <dc:language>en-US</dc:language>
  <cp:lastModifiedBy>Windows 98</cp:lastModifiedBy>
  <cp:lastPrinted>2002-06-06T12:49:56Z</cp:lastPrinted>
  <dcterms:modified xsi:type="dcterms:W3CDTF">2004-05-12T14:59:13Z</dcterms:modified>
  <cp:revision>23</cp:revision>
  <dc:subject/>
  <dc:title>Sin título de diapositiva</dc:title>
</cp:coreProperties>
</file>