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B3C-5113-4DBA-809A-D9C0C8C8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6AA-1FD9-4E20-9EA9-8EAED70B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E5D-98A7-4EE1-8282-29F68E7E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27C-9D5E-4903-8F34-0EB176EC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B09-683C-473B-A30E-400F048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F32-B2DF-49A9-868E-9A5FA70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0B2-4CC2-45C0-A965-ADF91AB8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D1A-B12A-46E9-AE0E-4452E51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BD3-1A26-47C2-ADF1-FABF4E7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01F-FBB6-4853-8807-2FA07C1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A30-7578-455C-BA50-238E15C4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94D-1C70-4F87-A00E-B257681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57036A55-1A93-40B1-83CD-074C7F4CF314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6120"/>
            <a:ext cx="2400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ducción Magnétic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953880"/>
            <a:ext cx="249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PENS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¿Qué pasa cuando un imán cae por un tubo metálic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0878920"/>
            <a:ext cx="10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EMPEZAR A ENTE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92203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3012280"/>
            <a:ext cx="1562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ómo son las líneas de campo magnético del imá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7889200"/>
            <a:ext cx="1463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Observemos la </a:t>
            </a: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 (en la bobin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Al variar en el tiempo el campo magnético que pasa a través de una bobina, se observa una fuerza electromotriz (fem) induc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800" y="32918400"/>
            <a:ext cx="9648360" cy="3781440"/>
            <a:chOff x="1828800" y="32918400"/>
            <a:chExt cx="9648360" cy="3781440"/>
          </a:xfrm>
        </p:grpSpPr>
        <p:graphicFrame>
          <p:nvGraphicFramePr>
            <p:cNvPr id="48" name=""/>
            <p:cNvGraphicFramePr/>
            <p:nvPr/>
          </p:nvGraphicFramePr>
          <p:xfrm>
            <a:off x="5638680" y="32918400"/>
            <a:ext cx="2190240" cy="37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918400"/>
                      <a:ext cx="219024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8457840" y="32918400"/>
            <a:ext cx="3019320" cy="373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7840" y="32918400"/>
                      <a:ext cx="30193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828800" y="32918400"/>
            <a:ext cx="3065400" cy="373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2918400"/>
                      <a:ext cx="3065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" name=""/>
          <p:cNvSpPr/>
          <p:nvPr/>
        </p:nvSpPr>
        <p:spPr>
          <a:xfrm>
            <a:off x="16992720" y="20954880"/>
            <a:ext cx="92199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Lenz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: corrientes inducidas (en el tub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Las corrientes inducidas generan un campo magnético contrario al del im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Se establece así una fuerza repulsiva que frena al im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9486720" y="31013280"/>
            <a:ext cx="1143000" cy="10670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6517880"/>
            <a:ext cx="12039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Qué observamos cuando hacemos caer algún objeto por el interior de un tub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e distinto si se trata de un imán “débil” o “muy intenso”? Qué vem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54080" y="16716240"/>
            <a:ext cx="1158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mporta si el tubo es metálico o plást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mbia algo si el tubo es de otro metal, o de otro diámetro o espes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15400" y="1552716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UÍA PARA EL CUR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4003000"/>
          <a:ext cx="4603680" cy="353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4003000"/>
                    <a:ext cx="46036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352680" y="36880920"/>
            <a:ext cx="6667560" cy="65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341640" y="26746200"/>
            <a:ext cx="434124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(z)=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)/(2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4079320"/>
            <a:ext cx="74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a un imán de momento magnético m, la intensidad del camp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 el eje z se puede calcu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07320" y="36880920"/>
            <a:ext cx="558936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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) x f(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87200" y="33299280"/>
            <a:ext cx="336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sta es la señal (voltaje) que po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dir con la comput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3162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26908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59400" y="26212680"/>
            <a:ext cx="8077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 observa que la fuerza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será más grande cuan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conductor sea el tu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gruesa sea su p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pequeño sea su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619760" y="21945600"/>
            <a:ext cx="609480" cy="1066680"/>
          </a:xfrm>
          <a:custGeom>
            <a:avLst/>
            <a:gdLst>
              <a:gd name="textAreaLeft" fmla="*/ 95040 w 609480"/>
              <a:gd name="textAreaRight" fmla="*/ 533520 w 609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44800" y="30937320"/>
            <a:ext cx="1143000" cy="1066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7880" y="34366320"/>
            <a:ext cx="990720" cy="1066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937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</a:rPr>
              <a:t>Cuando el imán se acerca a la bobina, cambia el flujo magnético en el tiempo y se produce la f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516600" y="29108520"/>
            <a:ext cx="7454160" cy="7197480"/>
            <a:chOff x="18516600" y="29108520"/>
            <a:chExt cx="7454160" cy="7197480"/>
          </a:xfrm>
        </p:grpSpPr>
        <p:graphicFrame>
          <p:nvGraphicFramePr>
            <p:cNvPr id="74" name=""/>
            <p:cNvGraphicFramePr/>
            <p:nvPr/>
          </p:nvGraphicFramePr>
          <p:xfrm>
            <a:off x="18516600" y="29108520"/>
            <a:ext cx="7197840" cy="7197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516600" y="29108520"/>
                      <a:ext cx="7197840" cy="71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4002280" y="34747200"/>
              <a:ext cx="1968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magné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induci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897480" y="34975800"/>
              <a:ext cx="203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orr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nduci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6120" y="34441920"/>
              <a:ext cx="533160" cy="129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2860000" y="35127720"/>
              <a:ext cx="914400" cy="837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250520" y="29336760"/>
              <a:ext cx="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63480" y="29489400"/>
              <a:ext cx="689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57400" y="1371600"/>
            <a:ext cx="23317200" cy="7576920"/>
            <a:chOff x="2057400" y="1371600"/>
            <a:chExt cx="23317200" cy="7576920"/>
          </a:xfrm>
        </p:grpSpPr>
        <p:pic>
          <p:nvPicPr>
            <p:cNvPr id="83" name="logoJPPc" descr=""/>
            <p:cNvPicPr/>
            <p:nvPr/>
          </p:nvPicPr>
          <p:blipFill>
            <a:blip r:embed="rId12"/>
            <a:stretch/>
          </p:blipFill>
          <p:spPr>
            <a:xfrm>
              <a:off x="10706040" y="1371600"/>
              <a:ext cx="5257800" cy="52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h03" descr=""/>
            <p:cNvPicPr/>
            <p:nvPr/>
          </p:nvPicPr>
          <p:blipFill>
            <a:blip r:embed="rId13"/>
            <a:stretch/>
          </p:blipFill>
          <p:spPr>
            <a:xfrm>
              <a:off x="1674972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h05" descr=""/>
            <p:cNvPicPr/>
            <p:nvPr/>
          </p:nvPicPr>
          <p:blipFill>
            <a:blip r:embed="rId14"/>
            <a:stretch/>
          </p:blipFill>
          <p:spPr>
            <a:xfrm>
              <a:off x="205740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19520" y="7391520"/>
              <a:ext cx="225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Windows 98</cp:lastModifiedBy>
  <cp:lastPrinted>2002-06-06T12:49:56Z</cp:lastPrinted>
  <dcterms:modified xsi:type="dcterms:W3CDTF">2004-05-12T14:59:13Z</dcterms:modified>
  <cp:revision>23</cp:revision>
  <dc:subject/>
  <dc:title>Sin título de diapositiva</dc:title>
</cp:coreProperties>
</file>