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26668413" cy="38098413"/>
  <p:notesSz cx="24293513" cy="35093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24F-06B7-4101-AEC8-4CCEEE90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8D3-AB0E-476A-9FEE-0F13492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8DD-5808-47A0-907F-D35A2EA6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6456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29320" y="1100628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9980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6456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329320" y="22946760"/>
            <a:ext cx="72993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65D-24BA-4BB7-B38D-6858B65D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6F1-5880-4E9A-905A-9405D29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EC5-5F31-47F5-B91A-305515A8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EB3-FB0F-463A-95A0-CB7B2F42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B7C-D016-46EB-9EF9-BB34380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99800" y="3385800"/>
            <a:ext cx="22669560" cy="294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D78-A411-4B00-9272-84917F5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287D-0DCB-4398-9B8D-E06C9E1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15920" y="2294676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B10-B090-439F-9B59-C42DC1C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980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615920" y="11006280"/>
            <a:ext cx="1106244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99800" y="22946760"/>
            <a:ext cx="22669560" cy="10904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3700440"/>
                <a:tab algn="l" pos="74008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FCE-E6F9-415B-A49C-80F33E3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99800" y="3385800"/>
            <a:ext cx="22669560" cy="635004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ctr">
            <a:noAutofit/>
          </a:bodyPr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17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9800" y="11006280"/>
            <a:ext cx="22669560" cy="2286000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rmAutofit/>
          </a:bodyPr>
          <a:p>
            <a:pPr marL="1387440" indent="-138744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06720" indent="-115560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2" marL="462600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•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3" marL="6477120" indent="-925560">
              <a:spcBef>
                <a:spcPts val="3251"/>
              </a:spcBef>
              <a:buClr>
                <a:srgbClr val="000000"/>
              </a:buClr>
              <a:buFont typeface="Times New Roman"/>
              <a:buChar char="–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4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5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 lvl="6" marL="8327880" indent="-925200">
              <a:spcBef>
                <a:spcPts val="3251"/>
              </a:spcBef>
              <a:buClr>
                <a:srgbClr val="000000"/>
              </a:buClr>
              <a:buFont typeface="Times New Roman"/>
              <a:buChar char="»"/>
              <a:tabLst>
                <a:tab algn="l" pos="3700440"/>
                <a:tab algn="l" pos="74008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016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12320" y="34713720"/>
            <a:ext cx="844560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ct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700440"/>
                <a:tab algn="l" pos="74008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113480" y="34713720"/>
            <a:ext cx="5556240" cy="2540160"/>
          </a:xfrm>
          <a:prstGeom prst="rect">
            <a:avLst/>
          </a:prstGeom>
          <a:noFill/>
          <a:ln w="0">
            <a:noFill/>
          </a:ln>
        </p:spPr>
        <p:txBody>
          <a:bodyPr lIns="370080" rIns="370080" tIns="185040" bIns="185040" anchor="t">
            <a:noAutofit/>
          </a:bodyPr>
          <a:lstStyle>
            <a:lvl1pPr indent="0" algn="r">
              <a:buNone/>
              <a:tabLst>
                <a:tab algn="l" pos="0"/>
                <a:tab algn="l" pos="3700440"/>
                <a:tab algn="l" pos="7400880"/>
              </a:tabLst>
              <a:defRPr b="0" lang="en-US" sz="5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700440"/>
                <a:tab algn="l" pos="7400880"/>
              </a:tabLst>
            </a:pPr>
            <a:fld id="{45371E85-9DEA-4F03-A3D8-4492423322E8}" type="slidenum"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00200" y="7010280"/>
            <a:ext cx="25069680" cy="2920320"/>
            <a:chOff x="1600200" y="7010280"/>
            <a:chExt cx="25069680" cy="2920320"/>
          </a:xfrm>
        </p:grpSpPr>
        <p:sp>
          <p:nvSpPr>
            <p:cNvPr id="42" name=""/>
            <p:cNvSpPr/>
            <p:nvPr/>
          </p:nvSpPr>
          <p:spPr>
            <a:xfrm>
              <a:off x="1600200" y="7010280"/>
              <a:ext cx="24003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Comic Sans MS"/>
                </a:rPr>
                <a:t>Composición de colores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52480" y="9105480"/>
              <a:ext cx="2491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PENSAR: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El color es una propiedad del objeto o de la luz que lo ilumin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752480" y="62485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0972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3746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9800" y="2895480"/>
            <a:ext cx="9829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1658600"/>
            <a:ext cx="25793640" cy="12902760"/>
            <a:chOff x="0" y="11658600"/>
            <a:chExt cx="25793640" cy="12902760"/>
          </a:xfrm>
        </p:grpSpPr>
        <p:grpSp>
          <p:nvGrpSpPr>
            <p:cNvPr id="49" name=""/>
            <p:cNvGrpSpPr/>
            <p:nvPr/>
          </p:nvGrpSpPr>
          <p:grpSpPr>
            <a:xfrm>
              <a:off x="1943280" y="15613200"/>
              <a:ext cx="23850360" cy="1817280"/>
              <a:chOff x="1943280" y="15613200"/>
              <a:chExt cx="23850360" cy="181728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2239920" y="16406640"/>
                <a:ext cx="22960080" cy="228600"/>
                <a:chOff x="2239920" y="16406640"/>
                <a:chExt cx="22960080" cy="2286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2239920" y="16406640"/>
                  <a:ext cx="229600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4627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48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4349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9210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98931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8406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13792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28653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43514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8374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880964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73235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78180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29572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326788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753960" y="164066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19432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s-E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2900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91508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05640" y="15644880"/>
                <a:ext cx="103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886880" y="15644880"/>
                <a:ext cx="125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9372600" y="1564488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8680" y="15644880"/>
                <a:ext cx="133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345840" y="15644880"/>
                <a:ext cx="12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831920" y="15644880"/>
                <a:ext cx="12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17640" y="15644880"/>
                <a:ext cx="137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803720" y="15644880"/>
                <a:ext cx="13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289440" y="15644880"/>
                <a:ext cx="129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775520" y="15613200"/>
                <a:ext cx="1485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61240" y="15644880"/>
                <a:ext cx="170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747320" y="15613200"/>
                <a:ext cx="141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233040" y="15644880"/>
                <a:ext cx="156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af0000"/>
                    </a:solidFill>
                    <a:latin typeface="Arial Unicode MS"/>
                  </a:rPr>
                  <a:t> </a:t>
                </a:r>
                <a:r>
                  <a:rPr b="0" lang="es-ES" sz="3600" spc="-1" strike="noStrike">
                    <a:solidFill>
                      <a:srgbClr val="000000"/>
                    </a:solidFill>
                    <a:latin typeface="Arial Unicode MS"/>
                  </a:rPr>
                  <a:t>10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Arial Unicode MS"/>
                  </a:rPr>
                  <a:t>-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68040" y="16787880"/>
                <a:ext cx="839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ngitud de onda (en metro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28600" y="13092120"/>
              <a:ext cx="88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Tamaño de la longitud de ond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9531080"/>
              <a:ext cx="716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jemplo de fuen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080" y="11658600"/>
              <a:ext cx="10820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EMPEZAR A ENTENDE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16080" y="1169676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63720" y="11658600"/>
              <a:ext cx="952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QUÉ ES LA LUZ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24160" y="17411760"/>
              <a:ext cx="6019920" cy="914400"/>
            </a:xfrm>
            <a:prstGeom prst="leftArrow">
              <a:avLst>
                <a:gd name="adj1" fmla="val 50000"/>
                <a:gd name="adj2" fmla="val 16458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29280" y="176212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ndas de r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67760" y="18612000"/>
              <a:ext cx="4876920" cy="4572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77240" y="1853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cro-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63240" y="17640360"/>
              <a:ext cx="5105520" cy="457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306240" y="175546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rarro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73680" y="1764036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16280" y="175928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Ultraviole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554760" y="18631080"/>
              <a:ext cx="32767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73880" y="1858320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blan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221640" y="17411760"/>
              <a:ext cx="3733920" cy="876240"/>
            </a:xfrm>
            <a:prstGeom prst="rightArrow">
              <a:avLst>
                <a:gd name="adj1" fmla="val 50000"/>
                <a:gd name="adj2" fmla="val 106532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383560" y="17564040"/>
              <a:ext cx="44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X du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203080" y="18402480"/>
              <a:ext cx="2209680" cy="838080"/>
            </a:xfrm>
            <a:prstGeom prst="rightArrow">
              <a:avLst>
                <a:gd name="adj1" fmla="val 50000"/>
                <a:gd name="adj2" fmla="val 65915"/>
              </a:avLst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45880" y="1853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yos Ga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30600" y="17640360"/>
              <a:ext cx="457200" cy="45720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087280" y="22364640"/>
              <a:ext cx="10439280" cy="1067040"/>
            </a:xfrm>
            <a:prstGeom prst="rect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6040160" y="18097560"/>
              <a:ext cx="838080" cy="4190760"/>
              <a:chOff x="16040160" y="18097560"/>
              <a:chExt cx="838080" cy="41907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4363640" y="19773720"/>
                <a:ext cx="4190760" cy="838080"/>
              </a:xfrm>
              <a:prstGeom prst="rightArrow">
                <a:avLst>
                  <a:gd name="adj1" fmla="val 50000"/>
                  <a:gd name="adj2" fmla="val 12501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4709960" y="19706040"/>
                <a:ext cx="351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isi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9" name="estadio" descr=""/>
            <p:cNvPicPr/>
            <p:nvPr/>
          </p:nvPicPr>
          <p:blipFill>
            <a:blip r:embed="rId1"/>
            <a:stretch/>
          </p:blipFill>
          <p:spPr>
            <a:xfrm>
              <a:off x="2476440" y="14135040"/>
              <a:ext cx="236232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ersona" descr=""/>
            <p:cNvPicPr/>
            <p:nvPr/>
          </p:nvPicPr>
          <p:blipFill>
            <a:blip r:embed="rId2"/>
            <a:stretch/>
          </p:blipFill>
          <p:spPr>
            <a:xfrm>
              <a:off x="5600880" y="14135040"/>
              <a:ext cx="9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elota" descr=""/>
            <p:cNvPicPr/>
            <p:nvPr/>
          </p:nvPicPr>
          <p:blipFill>
            <a:blip r:embed="rId3"/>
            <a:stretch/>
          </p:blipFill>
          <p:spPr>
            <a:xfrm>
              <a:off x="7201080" y="1421136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mosca" descr=""/>
            <p:cNvPicPr/>
            <p:nvPr/>
          </p:nvPicPr>
          <p:blipFill>
            <a:blip r:embed="rId4"/>
            <a:stretch/>
          </p:blipFill>
          <p:spPr>
            <a:xfrm>
              <a:off x="9296280" y="14059080"/>
              <a:ext cx="10414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celula" descr=""/>
            <p:cNvPicPr/>
            <p:nvPr/>
          </p:nvPicPr>
          <p:blipFill>
            <a:blip r:embed="rId5"/>
            <a:stretch/>
          </p:blipFill>
          <p:spPr>
            <a:xfrm>
              <a:off x="12916080" y="14135040"/>
              <a:ext cx="13204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52760" y="136018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ta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136018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96160" y="13601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lo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877240" y="1360188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s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534840" y="136018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él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bacteria" descr=""/>
            <p:cNvPicPr/>
            <p:nvPr/>
          </p:nvPicPr>
          <p:blipFill>
            <a:blip r:embed="rId6"/>
            <a:stretch/>
          </p:blipFill>
          <p:spPr>
            <a:xfrm>
              <a:off x="15887880" y="14135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5659280" y="136159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acter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roteina" descr=""/>
            <p:cNvPicPr/>
            <p:nvPr/>
          </p:nvPicPr>
          <p:blipFill>
            <a:blip r:embed="rId7"/>
            <a:stretch/>
          </p:blipFill>
          <p:spPr>
            <a:xfrm>
              <a:off x="18783360" y="14211360"/>
              <a:ext cx="14349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8631080" y="136018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teí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molecula" descr=""/>
            <p:cNvPicPr/>
            <p:nvPr/>
          </p:nvPicPr>
          <p:blipFill>
            <a:blip r:embed="rId8"/>
            <a:stretch/>
          </p:blipFill>
          <p:spPr>
            <a:xfrm>
              <a:off x="20764440" y="14135040"/>
              <a:ext cx="11098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0510640" y="1363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léc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1880" y="23736240"/>
              <a:ext cx="2278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general se llama LUZ a la porción visible del espectro electromagnétic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099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10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6284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28700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73480" y="2030724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691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9837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355360" y="20345400"/>
              <a:ext cx="0" cy="76212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4160" y="21069360"/>
              <a:ext cx="140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io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9200" y="21145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V, F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05720" y="2106936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rno Microon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39360" y="211456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ad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35720" y="2103120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ncrotr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145680" y="21069360"/>
              <a:ext cx="198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quipo de Rayos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98160" y="2110752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mentos radiactiv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497360" y="1946916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l Lámpar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39680" y="2114568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bjetos calien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26674920"/>
            <a:ext cx="23622120" cy="7387920"/>
            <a:chOff x="1600200" y="26674920"/>
            <a:chExt cx="23622120" cy="7387920"/>
          </a:xfrm>
        </p:grpSpPr>
        <p:sp>
          <p:nvSpPr>
            <p:cNvPr id="144" name=""/>
            <p:cNvSpPr/>
            <p:nvPr/>
          </p:nvSpPr>
          <p:spPr>
            <a:xfrm>
              <a:off x="1600200" y="26750880"/>
              <a:ext cx="929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SIGUEN LAS DUD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respuesta_ojo" descr=""/>
            <p:cNvPicPr/>
            <p:nvPr/>
          </p:nvPicPr>
          <p:blipFill>
            <a:blip r:embed="rId9"/>
            <a:stretch/>
          </p:blipFill>
          <p:spPr>
            <a:xfrm>
              <a:off x="3352680" y="28046520"/>
              <a:ext cx="6858000" cy="51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340080" y="28020960"/>
              <a:ext cx="6870600" cy="5257800"/>
              <a:chOff x="3340080" y="28020960"/>
              <a:chExt cx="6870600" cy="5257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40080" y="28020960"/>
                <a:ext cx="0" cy="5257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33266160"/>
                <a:ext cx="6858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1277720" y="26750880"/>
              <a:ext cx="1066680" cy="685800"/>
            </a:xfrm>
            <a:prstGeom prst="rightArrow">
              <a:avLst>
                <a:gd name="adj1" fmla="val 50000"/>
                <a:gd name="adj2" fmla="val 38885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8280" y="26674920"/>
              <a:ext cx="1135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OMO VEMOS LOS COLORES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33542280"/>
              <a:ext cx="693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ensibilidad de los tres tipos de co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58600" y="28275120"/>
              <a:ext cx="13335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Con sólo tres tipos de detectores (conos), principalmente sensibles al rojo, al verde y al azul, somos capaces de distinguir una gran variedad de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411080" y="32994720"/>
              <a:ext cx="9296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DIFICIL DE CREER.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0" y="0"/>
            <a:ext cx="26669880" cy="70102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191120" y="609480"/>
            <a:ext cx="18354240" cy="6098760"/>
            <a:chOff x="4191120" y="609480"/>
            <a:chExt cx="18354240" cy="6098760"/>
          </a:xfrm>
        </p:grpSpPr>
        <p:pic>
          <p:nvPicPr>
            <p:cNvPr id="156" name="logoJPPc" descr=""/>
            <p:cNvPicPr/>
            <p:nvPr/>
          </p:nvPicPr>
          <p:blipFill>
            <a:blip r:embed="rId10"/>
            <a:stretch/>
          </p:blipFill>
          <p:spPr>
            <a:xfrm>
              <a:off x="10999080" y="609480"/>
              <a:ext cx="4138560" cy="39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h03" descr=""/>
            <p:cNvPicPr/>
            <p:nvPr/>
          </p:nvPicPr>
          <p:blipFill>
            <a:blip r:embed="rId11"/>
            <a:stretch/>
          </p:blipFill>
          <p:spPr>
            <a:xfrm>
              <a:off x="1575648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h05" descr=""/>
            <p:cNvPicPr/>
            <p:nvPr/>
          </p:nvPicPr>
          <p:blipFill>
            <a:blip r:embed="rId12"/>
            <a:stretch/>
          </p:blipFill>
          <p:spPr>
            <a:xfrm>
              <a:off x="4191120" y="609480"/>
              <a:ext cx="6189120" cy="39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790880" y="5151240"/>
              <a:ext cx="17754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9600" spc="-1" strike="noStrike">
                  <a:solidFill>
                    <a:srgbClr val="ffffff"/>
                  </a:solidFill>
                  <a:latin typeface="Comic Sans MS"/>
                </a:rPr>
                <a:t>Semana de la Física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38360" y="2895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OTRA PREGU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829800" y="2743200"/>
            <a:ext cx="1508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¿Y SI MEZCLAMOS LUZ ROJA, VERDE Y AZU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949120" y="17635680"/>
            <a:ext cx="26669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ightColors" descr=""/>
          <p:cNvPicPr/>
          <p:nvPr/>
        </p:nvPicPr>
        <p:blipFill>
          <a:blip r:embed="rId1"/>
          <a:stretch/>
        </p:blipFill>
        <p:spPr>
          <a:xfrm>
            <a:off x="3200400" y="4648320"/>
            <a:ext cx="8361360" cy="8534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48720" y="2819520"/>
            <a:ext cx="1295280" cy="761760"/>
          </a:xfrm>
          <a:prstGeom prst="rightArrow">
            <a:avLst>
              <a:gd name="adj1" fmla="val 50000"/>
              <a:gd name="adj2" fmla="val 4250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0" y="5486400"/>
            <a:ext cx="10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30200" y="4762440"/>
            <a:ext cx="11353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mando en proporciones adecuadas luz roja, verde y azul, podemos obtener una gran variedad de colores distintos. A este sistema se lo llama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(red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 (green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 (blue)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y su suma da el blanco W(whit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011280" y="9677520"/>
            <a:ext cx="7010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Y (yellow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G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C (cya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 (magent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447812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25831800"/>
            <a:ext cx="233172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15544800"/>
            <a:ext cx="24041160" cy="10028880"/>
            <a:chOff x="1600200" y="15544800"/>
            <a:chExt cx="24041160" cy="10028880"/>
          </a:xfrm>
        </p:grpSpPr>
        <p:sp>
          <p:nvSpPr>
            <p:cNvPr id="171" name=""/>
            <p:cNvSpPr/>
            <p:nvPr/>
          </p:nvSpPr>
          <p:spPr>
            <a:xfrm>
              <a:off x="1600200" y="15621120"/>
              <a:ext cx="662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NUEVA DU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15621120"/>
              <a:ext cx="1295640" cy="761760"/>
            </a:xfrm>
            <a:prstGeom prst="rightArrow">
              <a:avLst>
                <a:gd name="adj1" fmla="val 50000"/>
                <a:gd name="adj2" fmla="val 42521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05840" y="15544800"/>
              <a:ext cx="1653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PORQUÉ SI MEZCLAMOS PINTURAS NO ES ASÍ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20720" y="17030880"/>
              <a:ext cx="1257300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Los pigmentos actúan absorbiendo luz de determinada longitud de onda. Por ejemplo, un objeto iluminado con luz blanca se ve amarillo porque absorbe el azul y refleja el rojo y el ver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9431000"/>
              <a:ext cx="5181480" cy="1295280"/>
            </a:xfrm>
            <a:prstGeom prst="parallelogram">
              <a:avLst>
                <a:gd name="adj" fmla="val 1000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7449920"/>
              <a:ext cx="2514600" cy="228600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09960" y="17830800"/>
              <a:ext cx="2514600" cy="2286000"/>
            </a:xfrm>
            <a:prstGeom prst="line">
              <a:avLst/>
            </a:prstGeom>
            <a:ln w="190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8211680"/>
              <a:ext cx="2514600" cy="228600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248520" y="17678160"/>
              <a:ext cx="2133360" cy="1904760"/>
            </a:xfrm>
            <a:prstGeom prst="line">
              <a:avLst/>
            </a:prstGeom>
            <a:ln w="190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905440" y="18554760"/>
              <a:ext cx="2133720" cy="1905120"/>
            </a:xfrm>
            <a:prstGeom prst="line">
              <a:avLst/>
            </a:prstGeom>
            <a:ln w="190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09960" y="22555080"/>
              <a:ext cx="220219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Usualmente vemos los objetos iluminados con luz blanca. En este caso mezclando tintas cyan, magenta y amarillo podemos lograr una extensa gama de colores, tal como lo hacen por ejemplo las impresoras de P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57680" y="21259800"/>
              <a:ext cx="2164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L COLOR DE UN OBJETO DEPENDE DE LA LUZ QUE LO ILUMINA!!!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0729800" y="17673480"/>
            <a:ext cx="26670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6822520"/>
            <a:ext cx="23393520" cy="9278280"/>
            <a:chOff x="1523880" y="26822520"/>
            <a:chExt cx="23393520" cy="9278280"/>
          </a:xfrm>
        </p:grpSpPr>
        <p:sp>
          <p:nvSpPr>
            <p:cNvPr id="185" name=""/>
            <p:cNvSpPr/>
            <p:nvPr/>
          </p:nvSpPr>
          <p:spPr>
            <a:xfrm>
              <a:off x="1523880" y="27050760"/>
              <a:ext cx="9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Comic Sans MS"/>
                </a:rPr>
                <a:t>PARA TERMINAR....O EMPEZ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73000" y="26822520"/>
              <a:ext cx="12268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¿CÓMO SE CREAN LOS COLORES EN UNA PANTALLA DE TV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125080" y="26974800"/>
              <a:ext cx="1295280" cy="761400"/>
            </a:xfrm>
            <a:prstGeom prst="rightArrow">
              <a:avLst>
                <a:gd name="adj1" fmla="val 50000"/>
                <a:gd name="adj2" fmla="val 4253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rgbScreenComp" descr=""/>
            <p:cNvPicPr/>
            <p:nvPr/>
          </p:nvPicPr>
          <p:blipFill>
            <a:blip r:embed="rId2"/>
            <a:stretch/>
          </p:blipFill>
          <p:spPr>
            <a:xfrm>
              <a:off x="1828800" y="29336760"/>
              <a:ext cx="12801600" cy="67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6062120" y="30084480"/>
              <a:ext cx="885528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En este caso la pantalla emite luz, no la absorbe, por lo tanto con la suma adecuada de </a:t>
              </a:r>
              <a:r>
                <a:rPr b="1" lang="en-US" sz="4800" spc="-1" strike="noStrike">
                  <a:solidFill>
                    <a:srgbClr val="ff5050"/>
                  </a:solidFill>
                  <a:latin typeface="Comic Sans MS"/>
                </a:rPr>
                <a:t>R</a:t>
              </a:r>
              <a:r>
                <a:rPr b="1" lang="en-US" sz="4800" spc="-1" strike="noStrike">
                  <a:solidFill>
                    <a:srgbClr val="33cc33"/>
                  </a:solidFill>
                  <a:latin typeface="Comic Sans MS"/>
                </a:rPr>
                <a:t>G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B </a:t>
              </a: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podemos generar todos los color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12:02:28Z</dcterms:created>
  <dc:creator>Windows 98</dc:creator>
  <dc:description/>
  <dc:language>en-US</dc:language>
  <cp:lastModifiedBy>Usuario</cp:lastModifiedBy>
  <cp:lastPrinted>2002-06-06T12:49:56Z</cp:lastPrinted>
  <dcterms:modified xsi:type="dcterms:W3CDTF">2005-05-13T14:05:46Z</dcterms:modified>
  <cp:revision>39</cp:revision>
  <dc:subject/>
  <dc:title>Sin título de diapositiva</dc:title>
</cp:coreProperties>
</file>