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EAB-3FD6-422F-A1F1-6D5823A9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DA9-2E08-4235-B5BB-4F97145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AC8-84F1-48C5-BA97-BE846CB3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324-6291-41FE-BB90-6F1559F8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549-663D-488C-AEB1-C81DE40B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183-275C-4475-B2F6-6BFB0AF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1F9-DD54-4B05-B559-A01F72FB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DC6-867C-4355-819E-766124A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A35-D3CE-40B4-881C-0903CAEE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A0A-D772-4C80-9A92-675D904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C9C-36A8-4C9E-9A32-02B7945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EC2-3C46-4144-A42F-49E26E3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DD1D60BE-FB12-4F30-9CCA-B5B231CC8320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e5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6120"/>
            <a:ext cx="2400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ducción Magnétic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953880"/>
            <a:ext cx="249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PENS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Comic Sans MS"/>
              </a:rPr>
              <a:t>¿Qué pasa cuando un imán cae por un tubo metálico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0878920"/>
            <a:ext cx="10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PARA EMPEZAR A ENTE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92203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3012280"/>
            <a:ext cx="1562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ómo son las líneas de campo magnético del imá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7889200"/>
            <a:ext cx="14630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Observemos la </a:t>
            </a: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Faraday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 (en la bobin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Al variar en el tiempo el campo magnético que pasa a través de una bobina, se observa una fuerza electromotriz (fem) induc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828800" y="32918400"/>
            <a:ext cx="9648360" cy="3781440"/>
            <a:chOff x="1828800" y="32918400"/>
            <a:chExt cx="9648360" cy="3781440"/>
          </a:xfrm>
        </p:grpSpPr>
        <p:graphicFrame>
          <p:nvGraphicFramePr>
            <p:cNvPr id="48" name=""/>
            <p:cNvGraphicFramePr/>
            <p:nvPr/>
          </p:nvGraphicFramePr>
          <p:xfrm>
            <a:off x="5638680" y="32918400"/>
            <a:ext cx="2190240" cy="378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32918400"/>
                      <a:ext cx="2190240" cy="37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8457840" y="32918400"/>
            <a:ext cx="3019320" cy="373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457840" y="32918400"/>
                      <a:ext cx="301932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828800" y="32918400"/>
            <a:ext cx="3065400" cy="373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32918400"/>
                      <a:ext cx="306540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" name=""/>
          <p:cNvSpPr/>
          <p:nvPr/>
        </p:nvSpPr>
        <p:spPr>
          <a:xfrm>
            <a:off x="16992720" y="20954880"/>
            <a:ext cx="92199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3333cc"/>
                </a:solidFill>
                <a:latin typeface="Comic Sans MS"/>
              </a:rPr>
              <a:t>Ley de Lenz</a:t>
            </a:r>
            <a:r>
              <a:rPr b="0" lang="es-ES_tradnl" sz="4800" spc="-1" strike="noStrike">
                <a:solidFill>
                  <a:srgbClr val="3333cc"/>
                </a:solidFill>
                <a:latin typeface="Comic Sans MS"/>
              </a:rPr>
              <a:t>: corrientes inducidas (en el tub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Las corrientes inducidas generan un campo magnético contrario al del imá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0000"/>
                </a:solidFill>
                <a:uFillTx/>
                <a:latin typeface="Comic Sans MS"/>
              </a:rPr>
              <a:t>Se establece así una fuerza repulsiva que frena al imá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9486720" y="31013280"/>
            <a:ext cx="1143000" cy="106704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6517880"/>
            <a:ext cx="12039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Qué observamos cuando hacemos caer algún objeto por el interior de un tub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e distinto si se trata de un imán “débil” o “muy intenso”? Qué vem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54080" y="16716240"/>
            <a:ext cx="1158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Importa si el tubo es metálico o plást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ambia algo si el tubo es de otro metal, o de otro diámetro o espes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915400" y="15527160"/>
            <a:ext cx="990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</a:rPr>
              <a:t>GUÍA PARA EL CURIOS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62320" y="24003000"/>
          <a:ext cx="4603680" cy="353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4003000"/>
                    <a:ext cx="46036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3352680" y="36880920"/>
            <a:ext cx="6667560" cy="65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341640" y="26746200"/>
            <a:ext cx="434124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(z)= 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)/(2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4079320"/>
            <a:ext cx="742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ara un imán de momento magnético m, la intensidad del campo magné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n el eje z se puede calcu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07320" y="36880920"/>
            <a:ext cx="5589360" cy="718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(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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) x f(V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87200" y="33299280"/>
            <a:ext cx="336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sta es la señal (voltaje) que pod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edir con la comput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3162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26908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59400" y="26212680"/>
            <a:ext cx="80773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e observa que la fuerza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 será más grande cuant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conductor sea el tu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gruesa sea su p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ás pequeño sea su 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7619760" y="21945600"/>
            <a:ext cx="609480" cy="1066680"/>
          </a:xfrm>
          <a:custGeom>
            <a:avLst/>
            <a:gdLst>
              <a:gd name="textAreaLeft" fmla="*/ 95040 w 609480"/>
              <a:gd name="textAreaRight" fmla="*/ 533520 w 609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544800" y="30937320"/>
            <a:ext cx="1143000" cy="10666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0667880" y="34366320"/>
            <a:ext cx="990720" cy="1066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0937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</a:rPr>
              <a:t>Cuando el imán se acerca a la bobina, cambia el flujo magnético en el tiempo y se produce la f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516600" y="29108520"/>
            <a:ext cx="7454160" cy="7197480"/>
            <a:chOff x="18516600" y="29108520"/>
            <a:chExt cx="7454160" cy="7197480"/>
          </a:xfrm>
        </p:grpSpPr>
        <p:graphicFrame>
          <p:nvGraphicFramePr>
            <p:cNvPr id="74" name=""/>
            <p:cNvGraphicFramePr/>
            <p:nvPr/>
          </p:nvGraphicFramePr>
          <p:xfrm>
            <a:off x="18516600" y="29108520"/>
            <a:ext cx="7197840" cy="7197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516600" y="29108520"/>
                      <a:ext cx="7197840" cy="71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24002280" y="34747200"/>
              <a:ext cx="1968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Cam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magné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imes New Roman"/>
                </a:rPr>
                <a:t>induci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897480" y="34975800"/>
              <a:ext cx="203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orr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induci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336120" y="34441920"/>
              <a:ext cx="533160" cy="129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2860000" y="35127720"/>
              <a:ext cx="914400" cy="837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250520" y="29336760"/>
              <a:ext cx="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263480" y="29489400"/>
              <a:ext cx="6897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057400" y="1371600"/>
            <a:ext cx="23317200" cy="7576920"/>
            <a:chOff x="2057400" y="1371600"/>
            <a:chExt cx="23317200" cy="7576920"/>
          </a:xfrm>
        </p:grpSpPr>
        <p:pic>
          <p:nvPicPr>
            <p:cNvPr id="83" name="logoJPPc" descr=""/>
            <p:cNvPicPr/>
            <p:nvPr/>
          </p:nvPicPr>
          <p:blipFill>
            <a:blip r:embed="rId12"/>
            <a:stretch/>
          </p:blipFill>
          <p:spPr>
            <a:xfrm>
              <a:off x="10706040" y="1371600"/>
              <a:ext cx="5257800" cy="52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h03" descr=""/>
            <p:cNvPicPr/>
            <p:nvPr/>
          </p:nvPicPr>
          <p:blipFill>
            <a:blip r:embed="rId13"/>
            <a:stretch/>
          </p:blipFill>
          <p:spPr>
            <a:xfrm>
              <a:off x="1674972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h05" descr=""/>
            <p:cNvPicPr/>
            <p:nvPr/>
          </p:nvPicPr>
          <p:blipFill>
            <a:blip r:embed="rId14"/>
            <a:stretch/>
          </p:blipFill>
          <p:spPr>
            <a:xfrm>
              <a:off x="2057400" y="1371600"/>
              <a:ext cx="7862760" cy="521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819520" y="7391520"/>
              <a:ext cx="225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Windows 98</cp:lastModifiedBy>
  <cp:lastPrinted>2002-06-06T12:49:56Z</cp:lastPrinted>
  <dcterms:modified xsi:type="dcterms:W3CDTF">2004-05-12T14:59:13Z</dcterms:modified>
  <cp:revision>23</cp:revision>
  <dc:subject/>
  <dc:title>Sin título de diapositiva</dc:title>
</cp:coreProperties>
</file>