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3BB-BF54-4E88-A78E-F6863402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533-E5F7-4C89-909B-12469864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E23-37F0-4533-8B94-ACA28619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070-8BAA-493D-95E9-D2D89290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842-D963-474E-92B6-34980509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909-EDA1-4932-9CDF-C188CB99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16E-3886-4B15-98C4-C2C4BB65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A05-8E9C-4E03-8C59-A926C7E2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106-ED3A-4B4D-9708-3F8314A3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B87-63C4-4439-856C-E545A747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BE3-42BE-4F89-969D-26F1024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CB8-C399-4D72-BA94-7B83FE26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702BCFFF-24F9-4F6E-823F-15E946DE8703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6120"/>
            <a:ext cx="2400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ducción Magnétic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953880"/>
            <a:ext cx="249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PENS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¿Qué pasa cuando un imán cae por un tubo metálic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0878920"/>
            <a:ext cx="10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EMPEZAR A ENTE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92203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3012280"/>
            <a:ext cx="1562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ómo son las líneas de campo magnético del imá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7889200"/>
            <a:ext cx="14630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Observemos la </a:t>
            </a: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 (en la bobin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Al variar en el tiempo el campo magnético que pasa a través de una bobina, se observa una fuerza electromotriz (fem) induc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28800" y="32918400"/>
            <a:ext cx="9648360" cy="3781440"/>
            <a:chOff x="1828800" y="32918400"/>
            <a:chExt cx="9648360" cy="3781440"/>
          </a:xfrm>
        </p:grpSpPr>
        <p:graphicFrame>
          <p:nvGraphicFramePr>
            <p:cNvPr id="48" name=""/>
            <p:cNvGraphicFramePr/>
            <p:nvPr/>
          </p:nvGraphicFramePr>
          <p:xfrm>
            <a:off x="5638680" y="32918400"/>
            <a:ext cx="2190240" cy="37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32918400"/>
                      <a:ext cx="2190240" cy="37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8457840" y="32918400"/>
            <a:ext cx="3019320" cy="373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7840" y="32918400"/>
                      <a:ext cx="301932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828800" y="32918400"/>
            <a:ext cx="3065400" cy="373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32918400"/>
                      <a:ext cx="306540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" name=""/>
          <p:cNvSpPr/>
          <p:nvPr/>
        </p:nvSpPr>
        <p:spPr>
          <a:xfrm>
            <a:off x="16992720" y="20954880"/>
            <a:ext cx="92199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Lenz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: corrientes inducidas (en el tub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Las corrientes inducidas generan un campo magnético contrario al del im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Se establece así una fuerza repulsiva que frena al imá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9486720" y="31013280"/>
            <a:ext cx="1143000" cy="10670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6517880"/>
            <a:ext cx="12039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Qué observamos cuando hacemos caer algún objeto por el interior de un tub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e distinto si se trata de un imán “débil” o “muy intenso”? Qué vem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54080" y="16716240"/>
            <a:ext cx="1158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Importa si el tubo es metálico o plást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mbia algo si el tubo es de otro metal, o de otro diámetro o espes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15400" y="15527160"/>
            <a:ext cx="99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GUÍA PARA EL CURI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62320" y="24003000"/>
          <a:ext cx="4603680" cy="353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4003000"/>
                    <a:ext cx="46036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352680" y="36880920"/>
            <a:ext cx="6667560" cy="65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341640" y="26746200"/>
            <a:ext cx="434124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(z)=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)/(2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4079320"/>
            <a:ext cx="74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ara un imán de momento magnético m, la intensidad del campo magné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n el eje z se puede calcul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07320" y="36880920"/>
            <a:ext cx="558936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(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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) x f(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87200" y="33299280"/>
            <a:ext cx="336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sta es la señal (voltaje) que pod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edir con la comput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3162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26908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59400" y="26212680"/>
            <a:ext cx="80773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 observa que la fuerza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 será más grande cuant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conductor sea el tu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gruesa sea su pa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pequeño sea su 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619760" y="21945600"/>
            <a:ext cx="609480" cy="1066680"/>
          </a:xfrm>
          <a:custGeom>
            <a:avLst/>
            <a:gdLst>
              <a:gd name="textAreaLeft" fmla="*/ 95040 w 609480"/>
              <a:gd name="textAreaRight" fmla="*/ 533520 w 609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544800" y="30937320"/>
            <a:ext cx="1143000" cy="10666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667880" y="34366320"/>
            <a:ext cx="990720" cy="10666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0937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</a:rPr>
              <a:t>Cuando el imán se acerca a la bobina, cambia el flujo magnético en el tiempo y se produce la f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516600" y="29108520"/>
            <a:ext cx="7454160" cy="7197480"/>
            <a:chOff x="18516600" y="29108520"/>
            <a:chExt cx="7454160" cy="7197480"/>
          </a:xfrm>
        </p:grpSpPr>
        <p:graphicFrame>
          <p:nvGraphicFramePr>
            <p:cNvPr id="74" name=""/>
            <p:cNvGraphicFramePr/>
            <p:nvPr/>
          </p:nvGraphicFramePr>
          <p:xfrm>
            <a:off x="18516600" y="29108520"/>
            <a:ext cx="7197840" cy="7197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516600" y="29108520"/>
                      <a:ext cx="7197840" cy="71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4002280" y="34747200"/>
              <a:ext cx="1968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Ca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magné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induci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897480" y="34975800"/>
              <a:ext cx="203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orr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induci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336120" y="34441920"/>
              <a:ext cx="533160" cy="129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2860000" y="35127720"/>
              <a:ext cx="914400" cy="837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250520" y="29336760"/>
              <a:ext cx="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63480" y="29489400"/>
              <a:ext cx="6897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57400" y="1371600"/>
            <a:ext cx="23317200" cy="7576920"/>
            <a:chOff x="2057400" y="1371600"/>
            <a:chExt cx="23317200" cy="7576920"/>
          </a:xfrm>
        </p:grpSpPr>
        <p:pic>
          <p:nvPicPr>
            <p:cNvPr id="83" name="logoJPPc" descr=""/>
            <p:cNvPicPr/>
            <p:nvPr/>
          </p:nvPicPr>
          <p:blipFill>
            <a:blip r:embed="rId12"/>
            <a:stretch/>
          </p:blipFill>
          <p:spPr>
            <a:xfrm>
              <a:off x="10706040" y="1371600"/>
              <a:ext cx="5257800" cy="52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h03" descr=""/>
            <p:cNvPicPr/>
            <p:nvPr/>
          </p:nvPicPr>
          <p:blipFill>
            <a:blip r:embed="rId13"/>
            <a:stretch/>
          </p:blipFill>
          <p:spPr>
            <a:xfrm>
              <a:off x="1674972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h05" descr=""/>
            <p:cNvPicPr/>
            <p:nvPr/>
          </p:nvPicPr>
          <p:blipFill>
            <a:blip r:embed="rId14"/>
            <a:stretch/>
          </p:blipFill>
          <p:spPr>
            <a:xfrm>
              <a:off x="205740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819520" y="7391520"/>
              <a:ext cx="225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Windows 98</cp:lastModifiedBy>
  <cp:lastPrinted>2002-06-06T12:49:56Z</cp:lastPrinted>
  <dcterms:modified xsi:type="dcterms:W3CDTF">2004-05-12T14:59:13Z</dcterms:modified>
  <cp:revision>23</cp:revision>
  <dc:subject/>
  <dc:title>Sin título de diapositiva</dc:title>
</cp:coreProperties>
</file>