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6668413" cy="38098413"/>
  <p:notesSz cx="24293513" cy="35093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ADDE-A499-4E91-941C-4BA02F8F5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99800" y="11006280"/>
            <a:ext cx="2266956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99800" y="22946760"/>
            <a:ext cx="2266956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AF26-6D14-4DE9-AA25-E3E1192B8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99800" y="11006280"/>
            <a:ext cx="1106244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615920" y="11006280"/>
            <a:ext cx="1106244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99800" y="22946760"/>
            <a:ext cx="1106244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3615920" y="22946760"/>
            <a:ext cx="1106244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4C9B-1F45-49D7-9A4E-DFAAB21AA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99800" y="11006280"/>
            <a:ext cx="729936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664560" y="11006280"/>
            <a:ext cx="729936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7329320" y="11006280"/>
            <a:ext cx="729936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99800" y="22946760"/>
            <a:ext cx="729936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9664560" y="22946760"/>
            <a:ext cx="729936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7329320" y="22946760"/>
            <a:ext cx="729936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D68E-9733-4EF1-8CE7-ABFE085B7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99800" y="11006280"/>
            <a:ext cx="22669560" cy="2286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51"/>
              </a:spcBef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0B4E-FDC2-4028-9FB3-360523E57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99800" y="11006280"/>
            <a:ext cx="22669560" cy="2286000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609A-5491-44C8-935C-78634CFC9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99800" y="11006280"/>
            <a:ext cx="11062440" cy="2286000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3615920" y="11006280"/>
            <a:ext cx="11062440" cy="2286000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5C7E-08B4-45B5-96A6-8B1C52F5B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EEA0-37E5-4876-990A-2032A6491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99800" y="3385800"/>
            <a:ext cx="22669560" cy="2943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51"/>
              </a:spcBef>
              <a:tabLst>
                <a:tab algn="l" pos="0"/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09BA-BC84-4ED8-9D79-48C0F772C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99800" y="11006280"/>
            <a:ext cx="1106244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3615920" y="11006280"/>
            <a:ext cx="11062440" cy="2286000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99800" y="22946760"/>
            <a:ext cx="1106244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8B86-B16B-483D-BDDA-7FA64B8C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99800" y="11006280"/>
            <a:ext cx="11062440" cy="2286000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3615920" y="11006280"/>
            <a:ext cx="1106244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15920" y="22946760"/>
            <a:ext cx="1106244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6B59-6F82-4B2D-AA17-1589DDDDA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99800" y="11006280"/>
            <a:ext cx="1106244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3615920" y="11006280"/>
            <a:ext cx="1106244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99800" y="22946760"/>
            <a:ext cx="2266956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BAD2-8620-48FD-B22A-32E6D0BD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e5ff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r>
              <a:rPr b="0" lang="en-US" sz="17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99800" y="11006280"/>
            <a:ext cx="22669560" cy="2286000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marL="1387440" indent="-1387440">
              <a:spcBef>
                <a:spcPts val="3251"/>
              </a:spcBef>
              <a:buClr>
                <a:srgbClr val="000000"/>
              </a:buClr>
              <a:buFont typeface="Times New Roman"/>
              <a:buChar char="•"/>
              <a:tabLst>
                <a:tab algn="l" pos="3700440"/>
                <a:tab algn="l" pos="74008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  <a:p>
            <a:pPr lvl="1" marL="3006720" indent="-1155600">
              <a:spcBef>
                <a:spcPts val="3251"/>
              </a:spcBef>
              <a:buClr>
                <a:srgbClr val="000000"/>
              </a:buClr>
              <a:buFont typeface="Times New Roman"/>
              <a:buChar char="–"/>
              <a:tabLst>
                <a:tab algn="l" pos="3700440"/>
                <a:tab algn="l" pos="74008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  <a:p>
            <a:pPr lvl="2" marL="4626000" indent="-925560">
              <a:spcBef>
                <a:spcPts val="3251"/>
              </a:spcBef>
              <a:buClr>
                <a:srgbClr val="000000"/>
              </a:buClr>
              <a:buFont typeface="Times New Roman"/>
              <a:buChar char="•"/>
              <a:tabLst>
                <a:tab algn="l" pos="3700440"/>
                <a:tab algn="l" pos="74008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  <a:p>
            <a:pPr lvl="3" marL="6477120" indent="-925560">
              <a:spcBef>
                <a:spcPts val="3251"/>
              </a:spcBef>
              <a:buClr>
                <a:srgbClr val="000000"/>
              </a:buClr>
              <a:buFont typeface="Times New Roman"/>
              <a:buChar char="–"/>
              <a:tabLst>
                <a:tab algn="l" pos="3700440"/>
                <a:tab algn="l" pos="74008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  <a:p>
            <a:pPr lvl="4" marL="8327880" indent="-925200">
              <a:spcBef>
                <a:spcPts val="3251"/>
              </a:spcBef>
              <a:buClr>
                <a:srgbClr val="000000"/>
              </a:buClr>
              <a:buFont typeface="Times New Roman"/>
              <a:buChar char="»"/>
              <a:tabLst>
                <a:tab algn="l" pos="3700440"/>
                <a:tab algn="l" pos="74008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  <a:p>
            <a:pPr lvl="5" marL="8327880" indent="-925200">
              <a:spcBef>
                <a:spcPts val="3251"/>
              </a:spcBef>
              <a:buClr>
                <a:srgbClr val="000000"/>
              </a:buClr>
              <a:buFont typeface="Times New Roman"/>
              <a:buChar char="»"/>
              <a:tabLst>
                <a:tab algn="l" pos="3700440"/>
                <a:tab algn="l" pos="74008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  <a:p>
            <a:pPr lvl="6" marL="8327880" indent="-925200">
              <a:spcBef>
                <a:spcPts val="3251"/>
              </a:spcBef>
              <a:buClr>
                <a:srgbClr val="000000"/>
              </a:buClr>
              <a:buFont typeface="Times New Roman"/>
              <a:buChar char="»"/>
              <a:tabLst>
                <a:tab algn="l" pos="3700440"/>
                <a:tab algn="l" pos="74008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000160" y="34713720"/>
            <a:ext cx="5556240" cy="254016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Autofit/>
          </a:bodyPr>
          <a:lstStyle>
            <a:lvl1pPr indent="0">
              <a:buNone/>
              <a:tabLst>
                <a:tab algn="l" pos="0"/>
                <a:tab algn="l" pos="3700440"/>
                <a:tab algn="l" pos="7400880"/>
              </a:tabLst>
              <a:defRPr b="0" lang="en-US" sz="5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700440"/>
                <a:tab algn="l" pos="740088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9112320" y="34713720"/>
            <a:ext cx="8445600" cy="254016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Autofit/>
          </a:bodyPr>
          <a:lstStyle>
            <a:lvl1pPr indent="0" algn="ctr">
              <a:buNone/>
              <a:tabLst>
                <a:tab algn="l" pos="0"/>
                <a:tab algn="l" pos="3700440"/>
                <a:tab algn="l" pos="7400880"/>
              </a:tabLst>
              <a:defRPr b="0" lang="en-US" sz="5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9113480" y="34713720"/>
            <a:ext cx="5556240" cy="254016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Autofit/>
          </a:bodyPr>
          <a:lstStyle>
            <a:lvl1pPr indent="0" algn="r">
              <a:buNone/>
              <a:tabLst>
                <a:tab algn="l" pos="0"/>
                <a:tab algn="l" pos="3700440"/>
                <a:tab algn="l" pos="7400880"/>
              </a:tabLst>
              <a:defRPr b="0" lang="en-US" sz="5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700440"/>
                <a:tab algn="l" pos="7400880"/>
              </a:tabLst>
            </a:pPr>
            <a:fld id="{8841D9EC-D244-474C-BBBC-670C26CD61B6}" type="slidenum">
              <a:rPr b="0" lang="en-US" sz="5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image" Target="../media/image5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.png"/><Relationship Id="rId12" Type="http://schemas.openxmlformats.org/officeDocument/2006/relationships/image" Target="../media/image7.jpeg"/><Relationship Id="rId13" Type="http://schemas.openxmlformats.org/officeDocument/2006/relationships/image" Target="../media/image8.jpeg"/><Relationship Id="rId14" Type="http://schemas.openxmlformats.org/officeDocument/2006/relationships/image" Target="../media/image9.jpe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e5ff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95280" y="9906120"/>
            <a:ext cx="2400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nducción Magnétic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12953880"/>
            <a:ext cx="24917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omic Sans MS"/>
              </a:rPr>
              <a:t>PARA PENSA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Comic Sans MS"/>
              </a:rPr>
              <a:t>¿Qué pasa cuando un imán cae por un tubo metálico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057400" y="20878920"/>
            <a:ext cx="1082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omic Sans MS"/>
              </a:rPr>
              <a:t>PARA EMPEZAR A ENTEND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05120" y="9220320"/>
            <a:ext cx="2331720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3012280"/>
            <a:ext cx="15621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3333cc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Cómo son las líneas de campo magnético del imá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27889200"/>
            <a:ext cx="1463040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3333cc"/>
                </a:solidFill>
                <a:latin typeface="Comic Sans MS"/>
              </a:rPr>
              <a:t>Observemos la </a:t>
            </a:r>
            <a:r>
              <a:rPr b="1" lang="es-ES_tradnl" sz="4800" spc="-1" strike="noStrike">
                <a:solidFill>
                  <a:srgbClr val="3333cc"/>
                </a:solidFill>
                <a:latin typeface="Comic Sans MS"/>
              </a:rPr>
              <a:t>ley de Faraday</a:t>
            </a:r>
            <a:r>
              <a:rPr b="0" lang="es-ES_tradnl" sz="4800" spc="-1" strike="noStrike">
                <a:solidFill>
                  <a:srgbClr val="3333cc"/>
                </a:solidFill>
                <a:latin typeface="Comic Sans MS"/>
              </a:rPr>
              <a:t> (en la bobina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0000"/>
                </a:solidFill>
                <a:uFillTx/>
                <a:latin typeface="Comic Sans MS"/>
              </a:rPr>
              <a:t>Al variar en el tiempo el campo magnético que pasa a través de una bobina, se observa una fuerza electromotriz (fem) inducid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1828800" y="32918400"/>
            <a:ext cx="9648360" cy="3781440"/>
            <a:chOff x="1828800" y="32918400"/>
            <a:chExt cx="9648360" cy="3781440"/>
          </a:xfrm>
        </p:grpSpPr>
        <p:graphicFrame>
          <p:nvGraphicFramePr>
            <p:cNvPr id="48" name=""/>
            <p:cNvGraphicFramePr/>
            <p:nvPr/>
          </p:nvGraphicFramePr>
          <p:xfrm>
            <a:off x="5638680" y="32918400"/>
            <a:ext cx="2190240" cy="3781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638680" y="32918400"/>
                      <a:ext cx="2190240" cy="3781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0" name=""/>
            <p:cNvGraphicFramePr/>
            <p:nvPr/>
          </p:nvGraphicFramePr>
          <p:xfrm>
            <a:off x="8457840" y="32918400"/>
            <a:ext cx="3019320" cy="3733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457840" y="32918400"/>
                      <a:ext cx="3019320" cy="373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2" name=""/>
            <p:cNvGraphicFramePr/>
            <p:nvPr/>
          </p:nvGraphicFramePr>
          <p:xfrm>
            <a:off x="1828800" y="32918400"/>
            <a:ext cx="3065400" cy="3733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828800" y="32918400"/>
                      <a:ext cx="3065400" cy="373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4" name=""/>
          <p:cNvSpPr/>
          <p:nvPr/>
        </p:nvSpPr>
        <p:spPr>
          <a:xfrm>
            <a:off x="16992720" y="20954880"/>
            <a:ext cx="9219960" cy="49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3333cc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3333cc"/>
                </a:solidFill>
                <a:latin typeface="Comic Sans MS"/>
              </a:rPr>
              <a:t>Ley de Lenz</a:t>
            </a:r>
            <a:r>
              <a:rPr b="0" lang="es-ES_tradnl" sz="4800" spc="-1" strike="noStrike">
                <a:solidFill>
                  <a:srgbClr val="3333cc"/>
                </a:solidFill>
                <a:latin typeface="Comic Sans MS"/>
              </a:rPr>
              <a:t>: corrientes inducidas (en el tubo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0000"/>
                </a:solidFill>
                <a:uFillTx/>
                <a:latin typeface="Comic Sans MS"/>
              </a:rPr>
              <a:t>Las corrientes inducidas generan un campo magnético contrario al del imá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0000"/>
                </a:solidFill>
                <a:uFillTx/>
                <a:latin typeface="Comic Sans MS"/>
              </a:rPr>
              <a:t>Se establece así una fuerza repulsiva que frena al imá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5400000">
            <a:off x="9486720" y="31013280"/>
            <a:ext cx="1143000" cy="106704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266760 h 1067040"/>
              <a:gd name="textAreaBottom" fmla="*/ 800280 h 106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16517880"/>
            <a:ext cx="12039840" cy="39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Qué observamos cuando hacemos caer algún objeto por el interior de un tub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Cae distinto si se trata de un imán “débil” o “muy intenso”? Qué vemo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4554080" y="16716240"/>
            <a:ext cx="11582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Importa si el tubo es metálico o plástic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Cambia algo si el tubo es de otro metal, o de otro diámetro o espesor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915400" y="15527160"/>
            <a:ext cx="990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omic Sans MS"/>
              </a:rPr>
              <a:t>GUÍA PARA EL CURIOS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362320" y="24003000"/>
          <a:ext cx="4603680" cy="3537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62320" y="24003000"/>
                    <a:ext cx="4603680" cy="353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1" name="" descr=""/>
          <p:cNvPicPr/>
          <p:nvPr/>
        </p:nvPicPr>
        <p:blipFill>
          <a:blip r:embed="rId9"/>
          <a:stretch/>
        </p:blipFill>
        <p:spPr>
          <a:xfrm>
            <a:off x="3352680" y="36880920"/>
            <a:ext cx="6667560" cy="657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9341640" y="26746200"/>
            <a:ext cx="4341240" cy="7182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s-ES_tradnl" sz="3600" spc="-1" strike="noStrike" baseline="-25000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(z)= (</a:t>
            </a:r>
            <a:r>
              <a:rPr b="0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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m)/(2 </a:t>
            </a:r>
            <a:r>
              <a:rPr b="0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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s-ES_tradnl" sz="36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848720" y="24079320"/>
            <a:ext cx="7427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Para un imán de momento magnético m, la intensidad del campo magnét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en el eje z se puede calcular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507320" y="36880920"/>
            <a:ext cx="5589360" cy="7182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(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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(2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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R) x f(V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887200" y="33299280"/>
            <a:ext cx="3368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Esta es la señal (voltaje) que podem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medir con la computado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05120" y="15316200"/>
            <a:ext cx="2331720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57400" y="20269080"/>
            <a:ext cx="2331720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059400" y="26212680"/>
            <a:ext cx="807732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Se observa que la fuerza (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) será más grande cuanto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más conductor sea el tub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más gruesa sea su par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más pequeño sea su rad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5400000">
            <a:off x="7619760" y="21945600"/>
            <a:ext cx="609480" cy="1066680"/>
          </a:xfrm>
          <a:custGeom>
            <a:avLst/>
            <a:gdLst>
              <a:gd name="textAreaLeft" fmla="*/ 95040 w 609480"/>
              <a:gd name="textAreaRight" fmla="*/ 533520 w 609480"/>
              <a:gd name="textAreaTop" fmla="*/ 266760 h 1066680"/>
              <a:gd name="textAreaBottom" fmla="*/ 800280 h 10666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544800" y="30937320"/>
            <a:ext cx="1143000" cy="106668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266760 h 1066680"/>
              <a:gd name="textAreaBottom" fmla="*/ 800280 h 10666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10667880" y="34366320"/>
            <a:ext cx="990720" cy="106668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828800" y="30937320"/>
            <a:ext cx="822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Comic Sans MS"/>
              </a:rPr>
              <a:t>Cuando el imán se acerca a la bobina, cambia el flujo magnético en el tiempo y se produce la f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18516600" y="29108520"/>
            <a:ext cx="7454160" cy="7197480"/>
            <a:chOff x="18516600" y="29108520"/>
            <a:chExt cx="7454160" cy="7197480"/>
          </a:xfrm>
        </p:grpSpPr>
        <p:graphicFrame>
          <p:nvGraphicFramePr>
            <p:cNvPr id="74" name=""/>
            <p:cNvGraphicFramePr/>
            <p:nvPr/>
          </p:nvGraphicFramePr>
          <p:xfrm>
            <a:off x="18516600" y="29108520"/>
            <a:ext cx="7197840" cy="719748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18516600" y="29108520"/>
                      <a:ext cx="7197840" cy="719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6" name=""/>
            <p:cNvSpPr/>
            <p:nvPr/>
          </p:nvSpPr>
          <p:spPr>
            <a:xfrm>
              <a:off x="24002280" y="34747200"/>
              <a:ext cx="19684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6600"/>
                  </a:solidFill>
                  <a:latin typeface="Times New Roman"/>
                </a:rPr>
                <a:t>Camp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6600"/>
                  </a:solidFill>
                  <a:latin typeface="Times New Roman"/>
                </a:rPr>
                <a:t>magnétic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6600"/>
                  </a:solidFill>
                  <a:latin typeface="Times New Roman"/>
                </a:rPr>
                <a:t>inducid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8897480" y="34975800"/>
              <a:ext cx="20368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Corrient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inducida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21336120" y="34441920"/>
              <a:ext cx="533160" cy="12949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flipV="1">
              <a:off x="22860000" y="35127720"/>
              <a:ext cx="914400" cy="83772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22250520" y="29336760"/>
              <a:ext cx="0" cy="17524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2263480" y="29489400"/>
              <a:ext cx="68976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4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2057400" y="1371600"/>
            <a:ext cx="23317200" cy="7576920"/>
            <a:chOff x="2057400" y="1371600"/>
            <a:chExt cx="23317200" cy="7576920"/>
          </a:xfrm>
        </p:grpSpPr>
        <p:pic>
          <p:nvPicPr>
            <p:cNvPr id="83" name="logoJPPc" descr=""/>
            <p:cNvPicPr/>
            <p:nvPr/>
          </p:nvPicPr>
          <p:blipFill>
            <a:blip r:embed="rId12"/>
            <a:stretch/>
          </p:blipFill>
          <p:spPr>
            <a:xfrm>
              <a:off x="10706040" y="1371600"/>
              <a:ext cx="5257800" cy="521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h03" descr=""/>
            <p:cNvPicPr/>
            <p:nvPr/>
          </p:nvPicPr>
          <p:blipFill>
            <a:blip r:embed="rId13"/>
            <a:stretch/>
          </p:blipFill>
          <p:spPr>
            <a:xfrm>
              <a:off x="16749720" y="1371600"/>
              <a:ext cx="7862760" cy="521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ph05" descr=""/>
            <p:cNvPicPr/>
            <p:nvPr/>
          </p:nvPicPr>
          <p:blipFill>
            <a:blip r:embed="rId14"/>
            <a:stretch/>
          </p:blipFill>
          <p:spPr>
            <a:xfrm>
              <a:off x="2057400" y="1371600"/>
              <a:ext cx="7862760" cy="521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2819520" y="7391520"/>
              <a:ext cx="225550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9600" spc="-1" strike="noStrike">
                  <a:solidFill>
                    <a:srgbClr val="ffffff"/>
                  </a:solidFill>
                  <a:latin typeface="Comic Sans MS"/>
                </a:rPr>
                <a:t>Semana de la Física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7T12:02:28Z</dcterms:created>
  <dc:creator>Windows 98</dc:creator>
  <dc:description/>
  <dc:language>en-US</dc:language>
  <cp:lastModifiedBy>Windows 98</cp:lastModifiedBy>
  <cp:lastPrinted>2002-06-06T12:49:56Z</cp:lastPrinted>
  <dcterms:modified xsi:type="dcterms:W3CDTF">2004-05-12T14:59:13Z</dcterms:modified>
  <cp:revision>23</cp:revision>
  <dc:subject/>
  <dc:title>Sin título de diapositiva</dc:title>
</cp:coreProperties>
</file>