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C48-365E-42EA-9B7E-4F4C7C8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DDC-0544-43CF-811F-0013C79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122-46CD-4770-B4E1-330DC798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9C7-C49B-4B6A-80DC-58A55609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55D-7EDE-428E-8D4D-01B3571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2F2-97C8-4F8B-A872-3106204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406-4C72-4261-B031-1546A25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DDE-F534-430F-8AE0-FC32F199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458-0D14-44B3-815B-223F5233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91D-A265-4D92-98E6-56BADB6B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6D2-5066-45ED-A0A7-BF74D3C5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1E7-3BD6-4465-BDF0-FCCB3B6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2D20-8A00-4657-A144-A3B616F5E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2004840"/>
            <a:ext cx="6789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ito-raya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024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380880"/>
            <a:ext cx="4800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Instituto de Astronomía </a:t>
            </a:r>
            <a:r>
              <a:rPr b="1" i="1" lang="es-E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y Física del Espacio</a:t>
            </a:r>
            <a:r>
              <a:rPr b="0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CHARLA PARA TOD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Año Internacional de la Lu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Jueves 18 de junio, 19 horas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86000"/>
            <a:ext cx="39625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Las primeras mediciones astronómicas de la velocidad de la luz "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Rafael Ferr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IAF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CONICET-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89154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ula del Edificio IAFE- Ciudad Universi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09680"/>
            <a:ext cx="6095880" cy="655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334120"/>
            <a:ext cx="5943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Hasta bien avanzado el siglo XVII no se conocía aún si la velocidad de la luz era finita o infinita. Los progresos de la astronomía en ese siglo, debidos a la introducción del telescopio, permitieron resolver el dile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 esta charla veremos cómo ciertos resultados inesperados en observaciones realizadas por Olaus Roemer (1676) y James Bradley (1729) demostraron que la luz se propaga con velocidad finita.</a:t>
            </a:r>
            <a:r>
              <a:rPr b="1" lang="en-US" sz="1800" spc="-1" strike="noStrike">
                <a:solidFill>
                  <a:srgbClr val="003366"/>
                </a:solidFill>
                <a:latin typeface="Albertus Extra Bold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432160"/>
            <a:ext cx="1460520" cy="27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4:20Z</dcterms:created>
  <dc:creator>berto</dc:creator>
  <dc:description/>
  <dc:language>en-US</dc:language>
  <cp:lastModifiedBy>WinuE</cp:lastModifiedBy>
  <dcterms:modified xsi:type="dcterms:W3CDTF">2015-06-04T18:28:00Z</dcterms:modified>
  <cp:revision>8</cp:revision>
  <dc:subject/>
  <dc:title>Presentación de PowerPoint</dc:title>
</cp:coreProperties>
</file>