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480-ABAD-4174-A144-CCE8F35E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7C3-6270-462E-9C45-7A312DE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B2D-7491-48A2-988B-4077C4AE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AF0-6FAB-463E-BD83-4C8B90E4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80C-BC35-453C-8630-0AFCD03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A44-5DF0-4240-B273-B6FD08B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EDD-D1F1-4D8F-B316-4324E60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074-533B-4F2F-84F5-A93FBCA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EB6-DC00-4602-B4D2-4029CE98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876-5429-4091-82B1-C3C2BF8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FB5-B2AA-4685-BFAE-BEBF083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981-8B46-42B2-A270-3FCA131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36E-2FFD-4135-978F-22D432CD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2004840"/>
            <a:ext cx="6789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ito-raya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024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380880"/>
            <a:ext cx="4800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Instituto de Astronomía </a:t>
            </a:r>
            <a:r>
              <a:rPr b="1" i="1" lang="es-E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y Física del Espacio</a:t>
            </a:r>
            <a:r>
              <a:rPr b="0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CHARLA PARA TOD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Año Internacional de la Lu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Jueves 18 de junio, 19 horas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86000"/>
            <a:ext cx="39625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Las primeras mediciones astronómicas de la velocidad de la luz "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Rafael Ferr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IAF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CONICET-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89154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ula del Edificio IAFE- Ciudad Universi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09680"/>
            <a:ext cx="6095880" cy="655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334120"/>
            <a:ext cx="5943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Hasta bien avanzado el siglo XVII no se conocía aún si la velocidad de la luz era finita o infinita. Los progresos de la astronomía en ese siglo, debidos a la introducción del telescopio, permitieron resolver el dile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 esta charla veremos cómo ciertos resultados inesperados en observaciones realizadas por Olaus Roemer (1676) y James Bradley (1729) demostraron que la luz se propaga con velocidad finita.</a:t>
            </a:r>
            <a:r>
              <a:rPr b="1" lang="en-US" sz="1800" spc="-1" strike="noStrike">
                <a:solidFill>
                  <a:srgbClr val="003366"/>
                </a:solidFill>
                <a:latin typeface="Albertus Extra Bold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432160"/>
            <a:ext cx="1460520" cy="27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4:20Z</dcterms:created>
  <dc:creator>berto</dc:creator>
  <dc:description/>
  <dc:language>en-US</dc:language>
  <cp:lastModifiedBy>WinuE</cp:lastModifiedBy>
  <dcterms:modified xsi:type="dcterms:W3CDTF">2015-06-04T18:28:00Z</dcterms:modified>
  <cp:revision>8</cp:revision>
  <dc:subject/>
  <dc:title>Presentación de PowerPoint</dc:title>
</cp:coreProperties>
</file>