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BF4D-0533-43A9-8CCC-C68054CF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ABAC-52C6-46A7-91FE-33CF1C27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9DD-ED5D-4DFA-A524-13132913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02A-63C5-49D4-BCE3-295FFA9D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44B-EE3B-4B82-9467-46F4D5ED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4F7-54E1-4CFE-838E-8484204A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8F6-EBFB-44E5-9877-2A34FC94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28C-FBD3-42BC-B69A-C5EC4303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569-B025-4CE6-AC99-75E7BB44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AF1-D589-4DBB-BA89-D720CF80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8FA-860A-4890-B8D3-06C21001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D49-F044-4092-992E-29A1A71A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DB0C-CF25-4EF0-AD25-1352FA8AA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1680" y="2004840"/>
            <a:ext cx="67896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ogito-raya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1200240" cy="129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0200" y="380880"/>
            <a:ext cx="48006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Bookman Old Style"/>
                <a:ea typeface="Times New Roman"/>
              </a:rPr>
              <a:t>Instituto de Astronomía </a:t>
            </a:r>
            <a:r>
              <a:rPr b="1" i="1" lang="es-ES" sz="2000" spc="-1" strike="noStrike">
                <a:solidFill>
                  <a:srgbClr val="0000ff"/>
                </a:solidFill>
                <a:latin typeface="Bookman Old Sty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Bookman Old Style"/>
                <a:ea typeface="Times New Roman"/>
              </a:rPr>
              <a:t>y Física del Espacio</a:t>
            </a:r>
            <a:r>
              <a:rPr b="0" i="1" lang="en-US" sz="2000" spc="-1" strike="noStrike">
                <a:solidFill>
                  <a:srgbClr val="0000ff"/>
                </a:solidFill>
                <a:latin typeface="Bookman Old Style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s-ES" sz="1800" spc="-1" strike="noStrike">
                <a:solidFill>
                  <a:srgbClr val="ff0000"/>
                </a:solidFill>
                <a:latin typeface="Comic Sans MS"/>
              </a:rPr>
              <a:t>CHARLA PARA TOD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1" i="1" lang="es-ES" sz="1800" spc="-1" strike="noStrike">
                <a:solidFill>
                  <a:srgbClr val="0000ff"/>
                </a:solidFill>
                <a:latin typeface="Comic Sans MS"/>
              </a:rPr>
              <a:t>Año Internacional de la Lu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99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cc99"/>
                </a:solidFill>
                <a:latin typeface="Comic Sans MS"/>
              </a:rPr>
              <a:t>Jueves 18 de junio, 19 horas.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286000"/>
            <a:ext cx="39625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"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Las primeras mediciones astronómicas de la velocidad de la luz "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. Rafael Ferra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IAF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CONICET-UB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89154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Aula del Edificio IAFE- Ciudad Universit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209680"/>
            <a:ext cx="6095880" cy="655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334120"/>
            <a:ext cx="59436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Hasta bien avanzado el siglo XVII no se conocía aún si la velocidad de la luz era finita o infinita. Los progresos de la astronomía en ese siglo, debidos a la introducción del telescopio, permitieron resolver el dile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En esta charla veremos cómo ciertos resultados inesperados en observaciones realizadas por Olaus Roemer (1676) y James Bradley (1729) demostraron que la luz se propaga con velocidad finita.</a:t>
            </a:r>
            <a:r>
              <a:rPr b="1" lang="en-US" sz="1800" spc="-1" strike="noStrike">
                <a:solidFill>
                  <a:srgbClr val="003366"/>
                </a:solidFill>
                <a:latin typeface="Albertus Extra Bold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24280" y="2432160"/>
            <a:ext cx="1460520" cy="277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04:20Z</dcterms:created>
  <dc:creator>berto</dc:creator>
  <dc:description/>
  <dc:language>en-US</dc:language>
  <cp:lastModifiedBy>WinuE</cp:lastModifiedBy>
  <dcterms:modified xsi:type="dcterms:W3CDTF">2015-06-04T18:28:00Z</dcterms:modified>
  <cp:revision>8</cp:revision>
  <dc:subject/>
  <dc:title>Presentación de PowerPoint</dc:title>
</cp:coreProperties>
</file>