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F40EA-C7AE-41F0-ACF8-39623E4B4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82673-5442-4168-ACEB-69488AB5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63B6C-3F2D-4002-9E71-5B4B97A93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FA838-56A6-44C5-B678-2B3670840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36E6D-BB53-4485-8CA2-EC7E43D15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DBA3C-77A6-489B-A224-958C3DAD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9C9D-386B-4ED0-92E3-90138E12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52E9E-A58C-4898-B97B-40998129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ADB2B-DD8C-47C0-B2C2-650CB6D7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A4AF6-CE9D-419D-ACDE-3BC86BEC1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1BDB-C837-4174-AC83-CFA8A931E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E978-1F5E-4F25-AC86-4E41AD88E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6A16-C077-4EFD-8963-9FDE05195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2000" spc="-1" strike="noStrike">
                <a:solidFill>
                  <a:srgbClr val="ff0000"/>
                </a:solidFill>
                <a:latin typeface="Comic Sans MS"/>
              </a:rPr>
              <a:t>CHARLA PARA TODO PÚBL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600" spc="-1" strike="noStrike">
                <a:solidFill>
                  <a:srgbClr val="33cc33"/>
                </a:solidFill>
                <a:latin typeface="Comic Sans MS"/>
              </a:rPr>
              <a:t>Jueves 2 de julio de 2015, 18 hs</a:t>
            </a:r>
            <a:r>
              <a:rPr b="1" i="1" lang="en-US" sz="1600" spc="-1" strike="noStrike" u="sng">
                <a:solidFill>
                  <a:srgbClr val="33cc33"/>
                </a:solidFill>
                <a:uFillTx/>
                <a:latin typeface="Comic Sans MS"/>
              </a:rPr>
              <a:t> </a:t>
            </a:r>
            <a:br>
              <a:rPr sz="1600"/>
            </a:br>
            <a:endParaRPr b="0" lang="en-US" sz="1600" spc="-1" strike="noStrike">
              <a:solidFill>
                <a:srgbClr val="000000"/>
              </a:solidFill>
              <a:latin typeface="Times New Roman"/>
            </a:endParaRPr>
          </a:p>
        </p:txBody>
      </p:sp>
      <p:sp>
        <p:nvSpPr>
          <p:cNvPr id="44" name=""/>
          <p:cNvSpPr/>
          <p:nvPr/>
        </p:nvSpPr>
        <p:spPr>
          <a:xfrm>
            <a:off x="333360" y="2289240"/>
            <a:ext cx="309564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000" spc="-1" strike="noStrike">
                <a:solidFill>
                  <a:srgbClr val="ff0000"/>
                </a:solidFill>
                <a:latin typeface="Comic Sans MS"/>
                <a:ea typeface="Arial"/>
              </a:rPr>
              <a:t>“</a:t>
            </a:r>
            <a:r>
              <a:rPr b="0" i="1" lang="es-CL" sz="2000" spc="-1" strike="noStrike">
                <a:solidFill>
                  <a:srgbClr val="ff0000"/>
                </a:solidFill>
                <a:latin typeface="Comic Sans MS"/>
              </a:rPr>
              <a:t>EL FONDO CÓSMICO DE MICROON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Comic Sans MS"/>
              </a:rPr>
              <a:t>A 50 años de su descubrimiento</a:t>
            </a:r>
            <a:r>
              <a:rPr b="1" i="1" lang="en-US" sz="2000" spc="-1" strike="noStrike">
                <a:solidFill>
                  <a:srgbClr val="ff0000"/>
                </a:solidFill>
                <a:latin typeface="Comic Sans MS"/>
              </a:rPr>
              <a:t>“</a:t>
            </a:r>
            <a:r>
              <a:rPr b="1" i="1"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imes New Roman"/>
              </a:rPr>
              <a:t>Dr. Gabriel R. Bengoche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Instituto de Astronomía y Física del Espacio (CONICET-UBA</a:t>
            </a:r>
            <a:r>
              <a:rPr b="1" i="1" lang="es-E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737240"/>
            <a:ext cx="6048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Hace 50 años, Arno Penzias y Robert Wilson encontraron por primera vez evidencias observacionales del fondo cósmico de radiación predicho en 1948 por George Gamow, Ralph Alpher y Robert Hermann. Por este descubrimiento, Penzias y Wilson ganarían en 1978 el Premio Nobel de Físic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sta radiación electromagnética es una predicción del modelo del Big Bang, el cual sostiene que durante la evolución térmica del universo, luego de la formación de los primeros átomos estables, la radiación existente se desacopló de la materia inundando al universo en todas las direcciones del ci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n esta presentación, haré un repaso sobre el origen de este fondo cósmico de radiación, la física que lo describe, y cuál es la información que extraemos de su análisis para hacer cosmología.</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http://plenilunia.com/wp-content/uploads/2015/01/2015-ANO-INTERNACIONAL-DE-LA-LUZ-300x200.jpg"/>
          <p:cNvPicPr/>
          <p:nvPr/>
        </p:nvPicPr>
        <p:blipFill>
          <a:blip r:embed="rId2"/>
          <a:stretch/>
        </p:blipFill>
        <p:spPr>
          <a:xfrm>
            <a:off x="3429000" y="2360520"/>
            <a:ext cx="278604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5-06-18T19:08:26Z</dcterms:modified>
  <cp:revision>23</cp:revision>
  <dc:subject/>
  <dc:title>Presentación de PowerPoint</dc:title>
</cp:coreProperties>
</file>