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33C38-5DF8-493F-B821-A7A57BD74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24C0-C6D1-475D-A232-DBCAC1C8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C3651-A8F3-4826-9D50-B7AD1F9CA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48A8E-16E8-42D4-8425-0503076DF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D5451-F5D7-43C3-A5AE-EE379BF19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D2CA2-E972-4FE1-95A6-99EE9B805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8192A-B9F7-4521-B28E-F295E1A38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92A2-2CFA-4A29-BC29-F6E9B5A68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372B0-1D45-4490-A2F0-8315F0AB5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F911-34F9-4DF1-A9F9-67D535E4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DD74-DF67-4FBF-8D99-8991B754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C32FB-88C1-42E8-9F33-2DC7BC2BA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A211-1E4D-4DE4-B61C-FF67E0F86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1800" spc="-1" strike="noStrike">
                <a:solidFill>
                  <a:srgbClr val="ff0000"/>
                </a:solidFill>
                <a:latin typeface="Comic Sans MS"/>
              </a:rPr>
              <a:t>CHARLA PARA TODO PÚBL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800" spc="-1" strike="noStrike">
                <a:solidFill>
                  <a:srgbClr val="33cc33"/>
                </a:solidFill>
                <a:latin typeface="Comic Sans MS"/>
              </a:rPr>
              <a:t>Jueves 31 de marzo de 2016, 18 hs</a:t>
            </a:r>
            <a:r>
              <a:rPr b="1" i="1" lang="en-US" sz="1800" spc="-1" strike="noStrike" u="sng">
                <a:solidFill>
                  <a:srgbClr val="33cc33"/>
                </a:solidFill>
                <a:uFillTx/>
                <a:latin typeface="Comic Sans MS"/>
              </a:rPr>
              <a:t> </a:t>
            </a:r>
            <a:br>
              <a:rPr sz="1800"/>
            </a:br>
            <a:endParaRPr b="0" lang="en-US" sz="1800" spc="-1" strike="noStrike">
              <a:solidFill>
                <a:srgbClr val="000000"/>
              </a:solidFill>
              <a:latin typeface="Times New Roman"/>
            </a:endParaRPr>
          </a:p>
        </p:txBody>
      </p:sp>
      <p:sp>
        <p:nvSpPr>
          <p:cNvPr id="44" name=""/>
          <p:cNvSpPr/>
          <p:nvPr/>
        </p:nvSpPr>
        <p:spPr>
          <a:xfrm>
            <a:off x="333360" y="2289240"/>
            <a:ext cx="61200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400" spc="-1" strike="noStrike">
                <a:solidFill>
                  <a:srgbClr val="ff0000"/>
                </a:solidFill>
                <a:latin typeface="Comic Sans MS"/>
                <a:ea typeface="Arial"/>
              </a:rPr>
              <a:t>“</a:t>
            </a:r>
            <a:r>
              <a:rPr b="1" i="1" lang="es-ES" sz="2400" spc="-1" strike="noStrike">
                <a:solidFill>
                  <a:srgbClr val="ff0000"/>
                </a:solidFill>
                <a:latin typeface="Comic Sans MS"/>
              </a:rPr>
              <a:t>Las ondas gravitacionales y el reciente descubrimiento del observatorio LIGO </a:t>
            </a:r>
            <a:r>
              <a:rPr b="1" i="1" lang="en-US" sz="2400" spc="-1" strike="noStrike">
                <a:solidFill>
                  <a:srgbClr val="ff0000"/>
                </a:solidFill>
                <a:latin typeface="Comic Sans MS"/>
              </a:rPr>
              <a:t>“</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Times New Roman"/>
              </a:rPr>
              <a:t>    </a:t>
            </a:r>
            <a:r>
              <a:rPr b="0" lang="es-ES" sz="1800" spc="-1" strike="noStrike">
                <a:solidFill>
                  <a:srgbClr val="000000"/>
                </a:solidFill>
                <a:latin typeface="Albertus Extra Bold"/>
              </a:rPr>
              <a:t>Dr. Ernesto F. Eiro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lbertus Extra Bold"/>
              </a:rPr>
              <a:t>IAFE (CONICET-UB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665600"/>
            <a:ext cx="5975280" cy="314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lbertus Extra Bold"/>
              </a:rPr>
              <a:t>La teoría de la Relatividad General predice la existencia de las ondas gravitacionales, hallazgo teórico debido al propio Einstein en el año 1916. Las mismas corresponden a vibraciones del espacio-tiempo y transportan energía que se propaga a la velocidad de la luz. Desde fines de la década de 1970 se tiene fuerte evidencia indirecta de la existencia de estas ondas, pero no había observaciones directas hasta el anuncio realizado el 11 de febrero de este año por el observatorio LIGO. En esta charla se analizan distintos aspectos teóricos y observacionales de las ondas gravitacionales, dedicando especial atención al descubrimiento recientemente anunciado.</a:t>
            </a: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6-03-18T17:51:08Z</dcterms:modified>
  <cp:revision>26</cp:revision>
  <dc:subject/>
  <dc:title>Presentación de PowerPoint</dc:title>
</cp:coreProperties>
</file>