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1F2-B99C-4BFE-803B-D3908745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D14-18B7-4DAE-BA65-DD12D8D0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4CE-D794-40BA-85A5-8B2FABC7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9FB-6144-4067-AA4D-46D53573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71C-94EA-4785-875A-77889F1C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8C6-7DDC-4C76-854C-1E002FE7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B19-403D-411D-845D-44F75424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FBC-B554-40A5-B983-01F35869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456-D005-44A3-ADE5-64B5D5E6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A5C-6F58-4889-A7B2-96FBE191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AC6-EEE7-46F5-8745-DD99453F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283-37A4-4BC5-8654-37FC5D7F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427458-BDAD-4864-8F18-CA5A1BBCA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952880"/>
            <a:ext cx="621684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76640" y="1281240"/>
          <a:ext cx="127944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6640" y="1281240"/>
                    <a:ext cx="127944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336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529240"/>
            <a:ext cx="685800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TALLER DE ASTR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Jueves  19 y 26 de may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9 y 16 de junio, 18 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: </a:t>
            </a:r>
            <a:r>
              <a:rPr b="1" i="1" lang="es-ES" sz="18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o :difusion@iafe.uba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0280" y="4089240"/>
            <a:ext cx="5562720" cy="8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TALLERES DE CIENCIA"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36052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076640" y="2216160"/>
            <a:ext cx="156060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21000" y="308124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5-05T20:24:23Z</dcterms:modified>
  <cp:revision>120</cp:revision>
  <dc:subject/>
  <dc:title>Presentación de PowerPoint</dc:title>
</cp:coreProperties>
</file>