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94D-658C-4162-BCBF-E87F3712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925-C65A-45FC-9DA2-5187AF24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05B-B021-428E-A5ED-35F379F6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3BF-0FBE-46AC-9D03-8D40221E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CEA-B4B5-4667-B4FF-9E0B200A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208-F8F3-4FB1-A6C0-417B09DA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F1D-68B9-4415-9FD7-4F198E00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C51-AAEF-4600-8BB1-695B2EE8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2F2-9347-45E4-893F-2E54EDB7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41B-ED5F-4707-B3ED-473F594D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94F-B811-48A0-88F0-A2D46AC5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AA3-6338-45A0-BF74-994CAB00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ABFDE6-0B1E-439E-AA7C-055FEFF2F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952880"/>
            <a:ext cx="62168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76640" y="1281240"/>
          <a:ext cx="127944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1281240"/>
                    <a:ext cx="127944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336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29240"/>
            <a:ext cx="685800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TALLER DE ASTR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Jueves  19 y 26 de may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9 y 16 de junio, 18 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: </a:t>
            </a:r>
            <a:r>
              <a:rPr b="1" i="1" lang="es-ES" sz="18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o :difusion@iafe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0280" y="4089240"/>
            <a:ext cx="556272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TALLERES DE CIENCIA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36052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6640" y="2216160"/>
            <a:ext cx="15606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21000" y="308124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5-05T20:24:23Z</dcterms:modified>
  <cp:revision>120</cp:revision>
  <dc:subject/>
  <dc:title>Presentación de PowerPoint</dc:title>
</cp:coreProperties>
</file>