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052-51CA-43D5-ACEF-5E227F99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9B7-4D38-4C8A-BFE6-F5626EC0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62B-9BCF-41ED-8ED1-1435FB95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FA5-1461-425A-A5D2-62888807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E39-A465-4E3C-B4EC-3E20FDD3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C97-3271-4192-96AD-FDB27D0A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BB3-CA68-45CF-96DA-6BBDE8AB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FC9-7A5F-4C60-9F21-3324521F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684-005C-4CC5-97FC-D056E4B2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5E7-86AA-4E8B-8088-E35A99F6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357-9939-460A-AC7F-6047A372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BF0-3E24-414B-AEB5-2790D76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3C48034-C1A1-46CF-B84F-21E79EDD2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952880"/>
            <a:ext cx="621684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76640" y="1281240"/>
          <a:ext cx="127944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6640" y="1281240"/>
                    <a:ext cx="127944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336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529240"/>
            <a:ext cx="685800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TALLER DE ASTR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Jueves  19 y 26 de may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9 y 16 de junio, 18 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: </a:t>
            </a:r>
            <a:r>
              <a:rPr b="1" i="1" lang="es-ES" sz="18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o :difusion@iafe.uba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0280" y="4089240"/>
            <a:ext cx="5562720" cy="8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TALLERES DE CIENCIA"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36052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076640" y="2216160"/>
            <a:ext cx="156060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21000" y="308124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5-05T20:24:23Z</dcterms:modified>
  <cp:revision>120</cp:revision>
  <dc:subject/>
  <dc:title>Presentación de PowerPoint</dc:title>
</cp:coreProperties>
</file>