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7B3-6C45-4AD2-A8F9-31EC08A4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530-EDA5-4E6D-A4F3-F2A0FFA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262-6851-4660-906C-8CEE594F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CCD-DDEF-4D14-AA17-CC0B7177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F47-04AC-4D52-B9E8-60D19FF8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C05-B233-429D-A81F-28F1F5C4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AA9-B6C3-4357-A01E-8E545C68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AD1-7FF9-4E61-BA9C-46A2EB65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804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09C-739C-43F9-AAA5-47F38C0E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6A5-1B5B-4E11-A43F-6B7C3E8C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836-66AB-4C15-84A2-E79CF5C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E07-29A0-4738-B313-E0794C9A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80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349200" indent="-3492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7080" indent="-290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532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8640" indent="-23148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55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808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808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808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9EB03A-A4C7-4677-ADBE-5CDA281AC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7160" y="1538280"/>
            <a:ext cx="2171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57520" y="660240"/>
            <a:ext cx="1875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1160" y="0"/>
            <a:ext cx="2641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4952880"/>
            <a:ext cx="621684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EL INSTITUTO DE ASTRONOMÍA Y FÍSICA DEL ESPACIO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IAFE- (CONICET-UB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76640" y="1281240"/>
          <a:ext cx="127944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1281240"/>
                    <a:ext cx="127944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rot="21096000">
            <a:off x="0" y="533160"/>
            <a:ext cx="2057400" cy="2057400"/>
          </a:xfrm>
          <a:prstGeom prst="cloudCallout">
            <a:avLst>
              <a:gd name="adj1" fmla="val 58546"/>
              <a:gd name="adj2" fmla="val 318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ct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3360" y="704880"/>
            <a:ext cx="129060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29240"/>
            <a:ext cx="685800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lbertus Extra Bold"/>
              </a:rPr>
              <a:t>te invita a participar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TALLER DE ASTR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lbertus Extra Bold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Jueves  19 y 26 de may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lbertus Extra Bold"/>
              </a:rPr>
              <a:t>9 y 16 de junio, 18 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Albertus Extra Bold"/>
              </a:rPr>
              <a:t>Mayor Información: </a:t>
            </a:r>
            <a:r>
              <a:rPr b="1" i="1" lang="es-ES" sz="1800" spc="-1" strike="noStrike">
                <a:solidFill>
                  <a:srgbClr val="000000"/>
                </a:solidFill>
                <a:latin typeface="Albertus Extra Bold"/>
              </a:rPr>
              <a:t>http://www.iafe.uba.ar/docs/taller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o :difusion@iafe.uba.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0280" y="4089240"/>
            <a:ext cx="5562720" cy="8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"TALLERES DE CIENCIA"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78200" y="622440"/>
            <a:ext cx="782640" cy="466560"/>
          </a:xfrm>
          <a:prstGeom prst="cloudCallout">
            <a:avLst>
              <a:gd name="adj1" fmla="val -2083"/>
              <a:gd name="adj2" fmla="val 1575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679320"/>
            <a:ext cx="3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lbertus Extra Bold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2884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13000" y="1136520"/>
            <a:ext cx="30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1544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29000" y="704880"/>
            <a:ext cx="20667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FÍS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92280" y="2360520"/>
            <a:ext cx="1560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LATIVIDAD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00280" y="1424160"/>
            <a:ext cx="1560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SMOLOG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6640" y="2216160"/>
            <a:ext cx="15606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ÍSICA CUÁNTIC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21000" y="3081240"/>
            <a:ext cx="20671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STRONOMÍ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5:29:37Z</dcterms:created>
  <dc:creator>?</dc:creator>
  <dc:description/>
  <dc:language>en-US</dc:language>
  <cp:lastModifiedBy>WinuE</cp:lastModifiedBy>
  <dcterms:modified xsi:type="dcterms:W3CDTF">2016-05-05T20:24:23Z</dcterms:modified>
  <cp:revision>120</cp:revision>
  <dc:subject/>
  <dc:title>Presentación de PowerPoint</dc:title>
</cp:coreProperties>
</file>