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72E7-B7FE-460C-934B-5B0AD593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FD53-BBED-4BB1-A6AA-112FA766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94D3-9D2B-4A7A-96DC-99D38244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D8F7-376D-41DB-B2C1-77EBADA5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EBF-8B76-424A-B475-24057D36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4CC-AF94-47E9-9F36-3044EE05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C7B-3768-41B0-AB2C-1DE9A9AA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04C-8284-4887-B2A7-9F08D70A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CB9F-33EA-4128-BCA8-0D10E46B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F24F-4FDF-4937-A520-CDFF52CC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499-16B8-42B3-B243-031B8D4A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886-1556-4219-B993-32CB3B4C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D6D4757-A8D8-4C63-BE1A-349B9823B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952880"/>
            <a:ext cx="621684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76640" y="1281240"/>
          <a:ext cx="127944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6640" y="1281240"/>
                    <a:ext cx="127944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336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529240"/>
            <a:ext cx="685800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lbertus Extra Bold"/>
              </a:rPr>
              <a:t>TALLER DE ASTR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lbertus Extra Bold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Jueves  19 y 26 de may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9 y 16 de junio, 18 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: </a:t>
            </a:r>
            <a:r>
              <a:rPr b="1" i="1" lang="es-ES" sz="18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lbertus Extra Bold"/>
              </a:rPr>
              <a:t>o :difusion@iafe.uba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60280" y="4089240"/>
            <a:ext cx="5562720" cy="8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TALLERES DE CIENCIA"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36052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076640" y="2216160"/>
            <a:ext cx="156060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21000" y="308124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5-05T20:24:23Z</dcterms:modified>
  <cp:revision>120</cp:revision>
  <dc:subject/>
  <dc:title>Presentación de PowerPoint</dc:title>
</cp:coreProperties>
</file>