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7269-E485-43F3-B7B8-B0EE966BC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543A-147F-49FD-B03B-E890AD21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244A-83BE-4CBB-9D9F-828C833C9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EDBD-8534-4164-9E15-2DDDE65EE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11BE-CD46-4CEA-82A5-C8CF588F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68CB-092B-4A05-9191-2C35D203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8915-0CE1-46FC-BEA5-89BC0C0E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2D28-7AF6-4483-84C3-9DAE3149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804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A1D9-5E2A-4E05-97E7-303254E1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0FCB-396D-436A-BF8E-FBDE16C6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7B64-01DA-46B3-8CEA-26DF4D51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FF89-8816-462B-961B-110128AA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marL="349200" indent="-3492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29052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532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28640" indent="-23148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8080"/>
            <a:ext cx="142884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8080"/>
            <a:ext cx="217152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8080"/>
            <a:ext cx="142848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77A8874-48EE-4F09-BE33-2BAF6F1F2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7160" y="1538280"/>
            <a:ext cx="2171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57520" y="660240"/>
            <a:ext cx="187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51160" y="0"/>
            <a:ext cx="26416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0280" y="4952880"/>
            <a:ext cx="6216840" cy="15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EL INSTITUTO DE ASTRONOMÍA Y FÍSICA DEL ESPACIO</a:t>
            </a: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IAFE- (CONICET-UBA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276640" y="1281240"/>
          <a:ext cx="1279440" cy="27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6640" y="1281240"/>
                    <a:ext cx="1279440" cy="27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 rot="21096000">
            <a:off x="0" y="533160"/>
            <a:ext cx="2057400" cy="2057400"/>
          </a:xfrm>
          <a:prstGeom prst="cloudCallout">
            <a:avLst>
              <a:gd name="adj1" fmla="val 58546"/>
              <a:gd name="adj2" fmla="val 318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33360" y="704880"/>
            <a:ext cx="1290600" cy="1657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5529240"/>
            <a:ext cx="685800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e invita a participar en 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lbertus Extra Bold"/>
              </a:rPr>
              <a:t>TALLER DE ASTR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lbertus Extra Bold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Jueves  19 y 26 de may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9 y 16 de junio, 18 h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800" spc="-1" strike="noStrike" u="sng">
                <a:solidFill>
                  <a:srgbClr val="000000"/>
                </a:solidFill>
                <a:uFillTx/>
                <a:latin typeface="Albertus Extra Bold"/>
              </a:rPr>
              <a:t>Mayor Información: </a:t>
            </a:r>
            <a:r>
              <a:rPr b="1" i="1" lang="es-ES" sz="1800" spc="-1" strike="noStrike">
                <a:solidFill>
                  <a:srgbClr val="000000"/>
                </a:solidFill>
                <a:latin typeface="Albertus Extra Bold"/>
              </a:rPr>
              <a:t>http://www.iafe.uba.ar/docs/talleres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lbertus Extra Bold"/>
              </a:rPr>
              <a:t>o :difusion@iafe.uba.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60280" y="4089240"/>
            <a:ext cx="5562720" cy="82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"TALLERES DE CIENCIA"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978200" y="622440"/>
            <a:ext cx="782640" cy="466560"/>
          </a:xfrm>
          <a:prstGeom prst="cloudCallout">
            <a:avLst>
              <a:gd name="adj1" fmla="val -2083"/>
              <a:gd name="adj2" fmla="val 1575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679320"/>
            <a:ext cx="32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lbertus Extra Bold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288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13000" y="1136520"/>
            <a:ext cx="302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1920" y="1544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29000" y="704880"/>
            <a:ext cx="206676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FÍS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92280" y="236052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LATIVIDAD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00280" y="1424160"/>
            <a:ext cx="1560600" cy="107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SMOLOG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076640" y="2216160"/>
            <a:ext cx="156060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ÍSICA CUÁNT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21000" y="3081240"/>
            <a:ext cx="206712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NOM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5:29:37Z</dcterms:created>
  <dc:creator>?</dc:creator>
  <dc:description/>
  <dc:language>en-US</dc:language>
  <cp:lastModifiedBy>WinuE</cp:lastModifiedBy>
  <dcterms:modified xsi:type="dcterms:W3CDTF">2016-05-05T20:24:23Z</dcterms:modified>
  <cp:revision>120</cp:revision>
  <dc:subject/>
  <dc:title>Presentación de PowerPoint</dc:title>
</cp:coreProperties>
</file>