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FFEE-961F-483A-906F-9ED7F94C8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52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017C-F3AC-4D25-ABFC-B4D6C5D17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C09E-45AB-4C16-B7E5-57BF46C1C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9694-272F-4194-9303-AEFD49E2A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F5DC-F284-4A09-BBBD-29986BD38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0D93-FAB0-43DC-8748-A0434125C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2FBF-5129-4498-935B-663E91954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3173-1C4F-44EC-BFAB-C8382EE72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78040"/>
            <a:ext cx="582912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CFC6-9EEA-44B6-95B1-BA8488F93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FAAA-04DB-4434-B188-65DB658C3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AB5F-5F84-417F-9BE8-0D2331FBD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EDD0-F080-4E7A-94EA-9CF4B8E2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marL="349200" indent="-34920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7080" indent="-29052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5320" indent="-23508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28640" indent="-23148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095560" indent="-2318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095560" indent="-2318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095560" indent="-2318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8080"/>
            <a:ext cx="1428840" cy="658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8080"/>
            <a:ext cx="2171520" cy="658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8080"/>
            <a:ext cx="1428480" cy="658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37DD9F3-3366-418E-8FD2-0757439BBB3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57160" y="1538280"/>
            <a:ext cx="21718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557520" y="660240"/>
            <a:ext cx="1875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51160" y="0"/>
            <a:ext cx="26416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04640" y="5600880"/>
            <a:ext cx="6216840" cy="21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lbertus Extra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lbertus Extra Bold"/>
                <a:ea typeface="Times New Roman"/>
              </a:rPr>
              <a:t>EL INSTITUTO DE ASTRONOMÍA Y FÍSICA DEL ESPACIO</a:t>
            </a:r>
            <a:r>
              <a:rPr b="0" lang="en-US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lbertus Extra Bold"/>
                <a:ea typeface="Times New Roman"/>
              </a:rPr>
              <a:t>IAFE- (CONICET-UBA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133720" y="1600200"/>
          <a:ext cx="127944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600200"/>
                    <a:ext cx="127944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 rot="21096000">
            <a:off x="0" y="533160"/>
            <a:ext cx="2057400" cy="2057400"/>
          </a:xfrm>
          <a:prstGeom prst="cloudCallout">
            <a:avLst>
              <a:gd name="adj1" fmla="val 58546"/>
              <a:gd name="adj2" fmla="val 3187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ct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04920" y="704880"/>
            <a:ext cx="1290600" cy="1657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6324480"/>
            <a:ext cx="6858000" cy="34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te invita a participar en 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TALLER DE RELATIVIDAD, COSMOLOGÍA Y FÍSICA CUÁNTICA – 2016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JUEVES 6, 13 y 27 de OCTUBRE y 3, 10 y 17 de NOVIEMBRE de 2016, 18:00 h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i="1" lang="es-ES_tradnl" sz="1600" spc="-1" strike="noStrike" u="sng">
                <a:solidFill>
                  <a:srgbClr val="000000"/>
                </a:solidFill>
                <a:uFillTx/>
                <a:latin typeface="Albertus Extra Bold"/>
              </a:rPr>
              <a:t>Mayor Información en página We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i="1" lang="es-ES" sz="1600" spc="-1" strike="noStrike">
                <a:solidFill>
                  <a:srgbClr val="000000"/>
                </a:solidFill>
                <a:latin typeface="Albertus Extra Bold"/>
              </a:rPr>
              <a:t>http://www.iafe.uba.ar/docs/talleres.html</a:t>
            </a:r>
            <a:r>
              <a:rPr b="1" i="1" lang="es-AR" sz="1600" spc="-1" strike="noStrike">
                <a:solidFill>
                  <a:srgbClr val="000000"/>
                </a:solidFill>
                <a:latin typeface="Albertus Extra Bold"/>
              </a:rPr>
              <a:t> ó por mail: difusion@iafe.uba.a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4376880"/>
            <a:ext cx="6858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" TALLERES DE CIENCIA"</a:t>
            </a:r>
            <a:endParaRPr b="0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1978200" y="622440"/>
            <a:ext cx="782640" cy="466560"/>
          </a:xfrm>
          <a:prstGeom prst="cloudCallout">
            <a:avLst>
              <a:gd name="adj1" fmla="val -2083"/>
              <a:gd name="adj2" fmla="val 15755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33440" y="679320"/>
            <a:ext cx="325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Albertus Extra Bold"/>
              </a:rPr>
              <a:t>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1219320"/>
            <a:ext cx="2884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13000" y="1136520"/>
            <a:ext cx="3024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41920" y="15447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429000" y="704880"/>
            <a:ext cx="2066760" cy="7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ASTROFÍSIC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92280" y="2649600"/>
            <a:ext cx="156024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RELATIVIDAD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500280" y="1424160"/>
            <a:ext cx="1560600" cy="107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COSMOLOGÍ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357720" y="2432160"/>
            <a:ext cx="156024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FÍSICA CUÁNTIC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860640" y="3224160"/>
            <a:ext cx="2067120" cy="7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ASTRONOMÍ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1T15:29:37Z</dcterms:created>
  <dc:creator>?</dc:creator>
  <dc:description/>
  <dc:language>en-US</dc:language>
  <cp:lastModifiedBy>WinuE</cp:lastModifiedBy>
  <dcterms:modified xsi:type="dcterms:W3CDTF">2016-09-19T19:02:58Z</dcterms:modified>
  <cp:revision>110</cp:revision>
  <dc:subject/>
  <dc:title>Presentación de PowerPoint</dc:title>
</cp:coreProperties>
</file>