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7D3D-00FA-46BB-924B-4AEB04689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416D-C776-4215-8E9A-BB0047F5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1C8C-6B05-420E-9D87-A25C8C6C9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5463-B69D-4ABE-AC66-F0D2E0C7E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F655-7803-4A8E-9F6B-90876893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5E5C-9D7C-49FD-AD35-7F60A950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2248-72AF-41E1-B7F7-EBFEF857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044F-80BD-4E8E-965C-18743F82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7804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DBEF-1A9D-4B09-BDB3-DF3C0D46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46B9-53AB-4D41-BBB6-49CD230A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7870-3322-4B94-BF11-8A45FD87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AE10-DBFD-45D9-9D4D-EDFD3CE8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marL="349200" indent="-34920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-29052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5320" indent="-2350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28640" indent="-23148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8080"/>
            <a:ext cx="142884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8080"/>
            <a:ext cx="217152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8080"/>
            <a:ext cx="142848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33C15CD-7D7B-47E7-8E4E-8B7D8EF61CE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57160" y="1538280"/>
            <a:ext cx="2171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57520" y="660240"/>
            <a:ext cx="1875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51160" y="0"/>
            <a:ext cx="26416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4640" y="5600880"/>
            <a:ext cx="6216840" cy="21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EL INSTITUTO DE ASTRONOMÍA Y FÍSICA DEL ESPACIO</a:t>
            </a: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IAFE- (CONICET-UBA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133720" y="1600200"/>
          <a:ext cx="127944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600200"/>
                    <a:ext cx="127944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 rot="21096000">
            <a:off x="0" y="533160"/>
            <a:ext cx="2057400" cy="2057400"/>
          </a:xfrm>
          <a:prstGeom prst="cloudCallout">
            <a:avLst>
              <a:gd name="adj1" fmla="val 58546"/>
              <a:gd name="adj2" fmla="val 3187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04920" y="704880"/>
            <a:ext cx="1290600" cy="1657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6324480"/>
            <a:ext cx="685800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te invita a participar en 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TALLER DE RELATIVIDAD, COSMOLOGÍA Y FÍSICA CUÁNTICA – 2016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JUEVES 6, 13 y 27 de OCTUBRE y 3, 10 y 17 de NOVIEMBRE de 2016, 18:00 h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Albertus Extra Bold"/>
              </a:rPr>
              <a:t>Mayor Información en página We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lbertus Extra Bold"/>
              </a:rPr>
              <a:t>http://www.iafe.uba.ar/docs/talleres.html</a:t>
            </a:r>
            <a:r>
              <a:rPr b="1" i="1" lang="es-AR" sz="1600" spc="-1" strike="noStrike">
                <a:solidFill>
                  <a:srgbClr val="000000"/>
                </a:solidFill>
                <a:latin typeface="Albertus Extra Bold"/>
              </a:rPr>
              <a:t> ó por mail: difusion@iafe.uba.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4376880"/>
            <a:ext cx="685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" TALLERES DE CIENCIA"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978200" y="622440"/>
            <a:ext cx="782640" cy="466560"/>
          </a:xfrm>
          <a:prstGeom prst="cloudCallout">
            <a:avLst>
              <a:gd name="adj1" fmla="val -2083"/>
              <a:gd name="adj2" fmla="val 1575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679320"/>
            <a:ext cx="32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lbertus Extra Bold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19320"/>
            <a:ext cx="288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13000" y="1136520"/>
            <a:ext cx="3024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41920" y="15447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29000" y="704880"/>
            <a:ext cx="206676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FÍS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92280" y="2649600"/>
            <a:ext cx="1560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ELATIVIDAD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00280" y="1424160"/>
            <a:ext cx="1560600" cy="107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SMOLOG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357720" y="2432160"/>
            <a:ext cx="1560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FÍSICA CUÁNT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60640" y="3224160"/>
            <a:ext cx="206712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NOM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5:29:37Z</dcterms:created>
  <dc:creator>?</dc:creator>
  <dc:description/>
  <dc:language>en-US</dc:language>
  <cp:lastModifiedBy>WinuE</cp:lastModifiedBy>
  <dcterms:modified xsi:type="dcterms:W3CDTF">2016-09-19T19:02:58Z</dcterms:modified>
  <cp:revision>110</cp:revision>
  <dc:subject/>
  <dc:title>Presentación de PowerPoint</dc:title>
</cp:coreProperties>
</file>