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B0DD-8973-4C28-84F2-2F968EB2E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52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69B4-22B5-4301-8A6E-2F5EFE78D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EAFC-78CB-43AE-B0D6-9839193E1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11E2-6654-4D23-9B24-3E6F8112F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ACBF-72BD-41FA-97C2-F63CA2ED2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C6D2-5E5F-4499-A848-AE4ED7FC5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7825-0CD3-412D-A9B4-8F6A98F59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E822-1135-4CD6-B800-B2E54B22E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78040"/>
            <a:ext cx="582912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7CD5-C062-4F07-8460-1A58AC856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64CC-0DAF-437F-90F5-20B67249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B090-3F8C-4525-AFB8-44DCF2D6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982C-689C-4F8F-91F5-F704754B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marL="349200" indent="-34920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7080" indent="-29052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5320" indent="-23508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28640" indent="-23148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0955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0955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0955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8080"/>
            <a:ext cx="1428840" cy="658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8080"/>
            <a:ext cx="2171520" cy="658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8080"/>
            <a:ext cx="1428480" cy="658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B4537AA-7FF6-4706-9232-920614C592D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57160" y="1538280"/>
            <a:ext cx="2171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557520" y="660240"/>
            <a:ext cx="1875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51160" y="0"/>
            <a:ext cx="26416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04640" y="5600880"/>
            <a:ext cx="6216840" cy="21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EL INSTITUTO DE ASTRONOMÍA Y FÍSICA DEL ESPACIO</a:t>
            </a: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IAFE- (CONICET-UBA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133720" y="1600200"/>
          <a:ext cx="127944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600200"/>
                    <a:ext cx="127944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 rot="21096000">
            <a:off x="0" y="533160"/>
            <a:ext cx="2057400" cy="2057400"/>
          </a:xfrm>
          <a:prstGeom prst="cloudCallout">
            <a:avLst>
              <a:gd name="adj1" fmla="val 58546"/>
              <a:gd name="adj2" fmla="val 3187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04920" y="704880"/>
            <a:ext cx="1290600" cy="1657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6324480"/>
            <a:ext cx="685800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te invita a participar en 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TALLER DE RELATIVIDAD, COSMOLOGÍA Y FÍSICA CUÁNTICA – 2016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JUEVES 6, 13 y 27 de OCTUBRE y 3, 10 y 17 de NOVIEMBRE de 2016, 18:00 h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i="1" lang="es-ES_tradnl" sz="1600" spc="-1" strike="noStrike" u="sng">
                <a:solidFill>
                  <a:srgbClr val="000000"/>
                </a:solidFill>
                <a:uFillTx/>
                <a:latin typeface="Albertus Extra Bold"/>
              </a:rPr>
              <a:t>Mayor Información en página We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lbertus Extra Bold"/>
              </a:rPr>
              <a:t>http://www.iafe.uba.ar/docs/talleres.html</a:t>
            </a:r>
            <a:r>
              <a:rPr b="1" i="1" lang="es-AR" sz="1600" spc="-1" strike="noStrike">
                <a:solidFill>
                  <a:srgbClr val="000000"/>
                </a:solidFill>
                <a:latin typeface="Albertus Extra Bold"/>
              </a:rPr>
              <a:t> ó por mail: difusion@iafe.uba.a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4376880"/>
            <a:ext cx="6858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" TALLERES DE CIENCIA"</a:t>
            </a:r>
            <a:endParaRPr b="0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1978200" y="622440"/>
            <a:ext cx="782640" cy="466560"/>
          </a:xfrm>
          <a:prstGeom prst="cloudCallout">
            <a:avLst>
              <a:gd name="adj1" fmla="val -2083"/>
              <a:gd name="adj2" fmla="val 1575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3440" y="679320"/>
            <a:ext cx="325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Albertus Extra Bold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1219320"/>
            <a:ext cx="2884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13000" y="1136520"/>
            <a:ext cx="3024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41920" y="15447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429000" y="704880"/>
            <a:ext cx="206676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ASTROFÍSIC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92280" y="2649600"/>
            <a:ext cx="156024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RELATIVIDAD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500280" y="1424160"/>
            <a:ext cx="1560600" cy="107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COSMOLOGÍ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357720" y="2432160"/>
            <a:ext cx="156024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FÍSICA CUÁNTIC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860640" y="3224160"/>
            <a:ext cx="206712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ASTRONOMÍ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15:29:37Z</dcterms:created>
  <dc:creator>?</dc:creator>
  <dc:description/>
  <dc:language>en-US</dc:language>
  <cp:lastModifiedBy>WinuE</cp:lastModifiedBy>
  <dcterms:modified xsi:type="dcterms:W3CDTF">2016-09-19T19:02:58Z</dcterms:modified>
  <cp:revision>110</cp:revision>
  <dc:subject/>
  <dc:title>Presentación de PowerPoint</dc:title>
</cp:coreProperties>
</file>