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440-3C70-4B36-88DE-210C6412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3DF-5F52-4017-BA0E-756573DA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5F3-EBB0-4C53-89D3-C1CAF754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919-A2DF-48F1-848B-CAE30A9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8F4-307A-49E9-889D-C82ED247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D49-CFD8-4481-B8B9-5D639BC4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FFF-ED19-412D-A189-62B8C76B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F5B-91E0-4D05-BAE2-62425DDC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D44-08E6-4977-959E-607B4D6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4F91-6DAC-48EF-93E7-457857E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355-4AA6-4997-8197-B1A7BC6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85B-AF4F-4E6C-975C-9C15CBC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4D996F-C0D6-49D1-B265-2D05CED48C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5600880"/>
            <a:ext cx="6216840" cy="21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33720" y="1600200"/>
          <a:ext cx="12794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12794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324480"/>
            <a:ext cx="685800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ALLER DE RELATIVIDAD, COSMOLOGÍA Y FÍSICA CUÁNTICA – 2016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JUEVES 6, 13 y 27 de OCTUBRE y 3, 10 y 17 de NOVIEMBRE de 2016, 18:00 h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 en página We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r>
              <a:rPr b="1" i="1" lang="es-AR" sz="1600" spc="-1" strike="noStrike">
                <a:solidFill>
                  <a:srgbClr val="000000"/>
                </a:solidFill>
                <a:latin typeface="Albertus Extra Bold"/>
              </a:rPr>
              <a:t> ó por mail: difusion@iafe.uba.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4376880"/>
            <a:ext cx="685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 TALLERES DE CIENCIA"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64960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357720" y="243216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60640" y="322416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9-19T19:02:58Z</dcterms:modified>
  <cp:revision>110</cp:revision>
  <dc:subject/>
  <dc:title>Presentación de PowerPoint</dc:title>
</cp:coreProperties>
</file>