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30FBD-7AAF-457C-A7D1-FA159601A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7804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05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52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80E77-8568-4C2E-BE91-6FC190343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7804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05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05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52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52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E22FA-179A-4780-8833-8C77DCC11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7804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05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05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05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52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52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52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846A8-F1F6-44A4-9DFE-95EC84E14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7804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05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3BD86-D399-4EB3-BD81-BB038E4C8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7804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05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97C75-D570-4229-BFB9-72D5BC941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7804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05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05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369DA-CADC-470C-9413-AE1185AC4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7804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21ED6-01A1-4981-8276-1F79A64C7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78040"/>
            <a:ext cx="5829120" cy="76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06522-15A4-4507-A9D4-F79E573A5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7804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05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05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52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7BDD8-89E5-4B12-886B-BECD93C24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7804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05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05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52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96774-CE83-44AB-83EF-46F2891ED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7804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05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05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52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AD718-69A1-4FC2-9E8C-31BC91642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7804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05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marL="349200" indent="-349200">
              <a:spcBef>
                <a:spcPts val="825"/>
              </a:spcBef>
              <a:buClr>
                <a:srgbClr val="000000"/>
              </a:buClr>
              <a:buFont typeface="Times New Roman"/>
              <a:buChar char="•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57080" indent="-290520">
              <a:spcBef>
                <a:spcPts val="825"/>
              </a:spcBef>
              <a:buClr>
                <a:srgbClr val="000000"/>
              </a:buClr>
              <a:buFont typeface="Times New Roman"/>
              <a:buChar char="–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65320" indent="-235080">
              <a:spcBef>
                <a:spcPts val="825"/>
              </a:spcBef>
              <a:buClr>
                <a:srgbClr val="000000"/>
              </a:buClr>
              <a:buFont typeface="Times New Roman"/>
              <a:buChar char="•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28640" indent="-231480">
              <a:spcBef>
                <a:spcPts val="825"/>
              </a:spcBef>
              <a:buClr>
                <a:srgbClr val="000000"/>
              </a:buClr>
              <a:buFont typeface="Times New Roman"/>
              <a:buChar char="–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095560" indent="-231840">
              <a:spcBef>
                <a:spcPts val="825"/>
              </a:spcBef>
              <a:buClr>
                <a:srgbClr val="000000"/>
              </a:buClr>
              <a:buFont typeface="Times New Roman"/>
              <a:buChar char="»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095560" indent="-231840">
              <a:spcBef>
                <a:spcPts val="825"/>
              </a:spcBef>
              <a:buClr>
                <a:srgbClr val="000000"/>
              </a:buClr>
              <a:buFont typeface="Times New Roman"/>
              <a:buChar char="»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095560" indent="-231840">
              <a:spcBef>
                <a:spcPts val="825"/>
              </a:spcBef>
              <a:buClr>
                <a:srgbClr val="000000"/>
              </a:buClr>
              <a:buFont typeface="Times New Roman"/>
              <a:buChar char="»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8080"/>
            <a:ext cx="1428840" cy="658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8080"/>
            <a:ext cx="2171520" cy="658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ct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8080"/>
            <a:ext cx="1428480" cy="658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6316277E-1307-471A-A75D-3482434C57DB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57160" y="1538280"/>
            <a:ext cx="217188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557520" y="660240"/>
            <a:ext cx="18756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t">
            <a:sp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351160" y="0"/>
            <a:ext cx="264168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sp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04640" y="5600880"/>
            <a:ext cx="6216840" cy="210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lbertus Extra Bold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lbertus Extra Bold"/>
                <a:ea typeface="Times New Roman"/>
              </a:rPr>
              <a:t>EL INSTITUTO DE ASTRONOMÍA Y FÍSICA DEL ESPACIO</a:t>
            </a:r>
            <a:r>
              <a:rPr b="0" lang="en-US" sz="1600" spc="-1" strike="noStrike">
                <a:solidFill>
                  <a:srgbClr val="000000"/>
                </a:solidFill>
                <a:latin typeface="Albertus Extra Bold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lbertus Extra Bold"/>
                <a:ea typeface="Times New Roman"/>
              </a:rPr>
              <a:t>IAFE- (CONICET-UBA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62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62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133720" y="1600200"/>
          <a:ext cx="1279440" cy="26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1600200"/>
                    <a:ext cx="1279440" cy="26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"/>
          <p:cNvSpPr/>
          <p:nvPr/>
        </p:nvSpPr>
        <p:spPr>
          <a:xfrm rot="21096000">
            <a:off x="0" y="533160"/>
            <a:ext cx="2057400" cy="2057400"/>
          </a:xfrm>
          <a:prstGeom prst="cloudCallout">
            <a:avLst>
              <a:gd name="adj1" fmla="val 58546"/>
              <a:gd name="adj2" fmla="val 3187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ct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304920" y="704880"/>
            <a:ext cx="1290600" cy="16574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0" y="6324480"/>
            <a:ext cx="6858000" cy="340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lbertus Extra Bold"/>
              </a:rPr>
              <a:t>te invita a participar en e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lbertus Extra Bold"/>
              </a:rPr>
              <a:t>TALLER DE RELATIVIDAD, COSMOLOGÍA Y FÍSICA CUÁNTICA – 2016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lbertus Extra Bold"/>
              </a:rPr>
              <a:t>JUEVES 6, 13 y 27 de OCTUBRE y 3, 10 y 17 de NOVIEMBRE de 2016, 18:00 h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i="1" lang="es-ES_tradnl" sz="1600" spc="-1" strike="noStrike" u="sng">
                <a:solidFill>
                  <a:srgbClr val="000000"/>
                </a:solidFill>
                <a:uFillTx/>
                <a:latin typeface="Albertus Extra Bold"/>
              </a:rPr>
              <a:t>Mayor Información en página Web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Albertus Extra Bold"/>
              </a:rPr>
              <a:t> </a:t>
            </a:r>
            <a:r>
              <a:rPr b="1" i="1" lang="es-ES" sz="1600" spc="-1" strike="noStrike">
                <a:solidFill>
                  <a:srgbClr val="000000"/>
                </a:solidFill>
                <a:latin typeface="Albertus Extra Bold"/>
              </a:rPr>
              <a:t>http://www.iafe.uba.ar/docs/talleres.html</a:t>
            </a:r>
            <a:r>
              <a:rPr b="1" i="1" lang="es-AR" sz="1600" spc="-1" strike="noStrike">
                <a:solidFill>
                  <a:srgbClr val="000000"/>
                </a:solidFill>
                <a:latin typeface="Albertus Extra Bold"/>
              </a:rPr>
              <a:t> ó por mail: difusion@iafe.uba.a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0" y="4376880"/>
            <a:ext cx="685800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" TALLERES DE CIENCIA"</a:t>
            </a:r>
            <a:endParaRPr b="0" lang="en-US" sz="4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1" name=""/>
          <p:cNvSpPr/>
          <p:nvPr/>
        </p:nvSpPr>
        <p:spPr>
          <a:xfrm>
            <a:off x="1978200" y="622440"/>
            <a:ext cx="782640" cy="466560"/>
          </a:xfrm>
          <a:prstGeom prst="cloudCallout">
            <a:avLst>
              <a:gd name="adj1" fmla="val -2083"/>
              <a:gd name="adj2" fmla="val 15755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3080" rIns="7308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31880"/>
                <a:tab algn="l" pos="1463760"/>
                <a:tab algn="l" pos="2195640"/>
                <a:tab algn="l" pos="2927520"/>
                <a:tab algn="l" pos="3659040"/>
                <a:tab algn="l" pos="4390920"/>
                <a:tab algn="l" pos="5122800"/>
                <a:tab algn="l" pos="5854680"/>
                <a:tab algn="l" pos="6586560"/>
                <a:tab algn="l" pos="7318440"/>
                <a:tab algn="l" pos="8050320"/>
                <a:tab algn="l" pos="8782200"/>
                <a:tab algn="l" pos="9513720"/>
                <a:tab algn="l" pos="1024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33440" y="679320"/>
            <a:ext cx="3254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720" bIns="3672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731880"/>
                <a:tab algn="l" pos="1463760"/>
                <a:tab algn="l" pos="2195640"/>
                <a:tab algn="l" pos="2927520"/>
                <a:tab algn="l" pos="3659040"/>
                <a:tab algn="l" pos="4390920"/>
                <a:tab algn="l" pos="5122800"/>
                <a:tab algn="l" pos="5854680"/>
                <a:tab algn="l" pos="6586560"/>
                <a:tab algn="l" pos="7318440"/>
                <a:tab algn="l" pos="8050320"/>
                <a:tab algn="l" pos="8782200"/>
                <a:tab algn="l" pos="9513720"/>
                <a:tab algn="l" pos="10245600"/>
              </a:tabLst>
            </a:pPr>
            <a:r>
              <a:rPr b="0" lang="es-ES_tradnl" sz="2900" spc="-1" strike="noStrike">
                <a:solidFill>
                  <a:srgbClr val="000000"/>
                </a:solidFill>
                <a:latin typeface="Albertus Extra Bold"/>
              </a:rPr>
              <a:t>?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352680" y="1219320"/>
            <a:ext cx="28846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13000" y="1136520"/>
            <a:ext cx="30243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41920" y="154476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429000" y="704880"/>
            <a:ext cx="2066760" cy="79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0c0c0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ASTROFÍSICA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c0c0c0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92280" y="2649600"/>
            <a:ext cx="1560240" cy="107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0c0c0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RELATIVIDAD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c0c0c0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3500280" y="1424160"/>
            <a:ext cx="1560600" cy="1072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0c0c0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COSMOLOGÍA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c0c0c0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357720" y="2432160"/>
            <a:ext cx="1560240" cy="107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0c0c0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FÍSICA CUÁNTICA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c0c0c0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3860640" y="3224160"/>
            <a:ext cx="2067120" cy="79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0c0c0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ASTRONOMÍA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c0c0c0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1T15:29:37Z</dcterms:created>
  <dc:creator>?</dc:creator>
  <dc:description/>
  <dc:language>en-US</dc:language>
  <cp:lastModifiedBy>WinuE</cp:lastModifiedBy>
  <dcterms:modified xsi:type="dcterms:W3CDTF">2016-09-19T19:02:58Z</dcterms:modified>
  <cp:revision>110</cp:revision>
  <dc:subject/>
  <dc:title>Presentación de PowerPoint</dc:title>
</cp:coreProperties>
</file>