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17B7-8E69-4C48-A8AA-CFFB60DB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372F-B8EE-45F5-BB9C-4022B495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43D9-7DCF-4556-9CF4-62A3F1F4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DBB3-CD5E-4C56-BBAF-0B28A22A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0AF4-C9D8-4E36-AF53-7797F4E6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6F8-F7FF-4180-BC36-34672487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3B25-CA14-40F4-ACFB-FFDCD2C0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706-8C0C-4CC5-9707-E179F19F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50C7-1404-4D4E-BED2-0B6DF6FE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05ED-71D8-42A2-8BA0-F9877540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0AA6-0CDB-4B69-BEF6-67B1DA5B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B74F-3169-45BB-90CE-A78D10DD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D21D89-7571-4369-906B-D58DC24067A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5600880"/>
            <a:ext cx="62168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33720" y="1600200"/>
          <a:ext cx="12794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12794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324480"/>
            <a:ext cx="685800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ALLER DE RELATIVIDAD, COSMOLOGÍA Y FÍSICA CUÁNTICA – 2016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JUEVES 6, 13 y 27 de OCTUBRE y 3, 10 y 17 de NOVIEMBRE de 2016, 18:00 h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 en página We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r>
              <a:rPr b="1" i="1" lang="es-AR" sz="1600" spc="-1" strike="noStrike">
                <a:solidFill>
                  <a:srgbClr val="000000"/>
                </a:solidFill>
                <a:latin typeface="Albertus Extra Bold"/>
              </a:rPr>
              <a:t> ó por mail: difusion@iafe.uba.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4376880"/>
            <a:ext cx="685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 TALLERES DE CIENCIA"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64960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57720" y="243216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60640" y="322416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9-19T19:02:58Z</dcterms:modified>
  <cp:revision>110</cp:revision>
  <dc:subject/>
  <dc:title>Presentación de PowerPoint</dc:title>
</cp:coreProperties>
</file>