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9D52-B787-4EE7-BCB4-21ADE419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66E9-8A36-4EEB-A47B-0C289C80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E5B4-FE4B-4071-9127-5F7C6A93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2F6F-5BEF-4AD4-AA1E-648DD407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4FB4-FA73-48BE-84E7-7C00395E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9494-7FC6-48E6-B635-7DDB6B45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3C70-4F0C-4B9D-881A-DE622CDE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628A-4BC9-4056-94C7-A1CD31B1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8DFB-28A8-48D3-8DEA-4EADBB3D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F6F7-9A64-48DA-B1F9-D97470D0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83D2-82D0-4ECD-BC84-4CFA71C0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6F39-85C4-462A-B910-A9E39E9D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608F5B6-0E11-4A9F-B4C6-1662B9BA90E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5600880"/>
            <a:ext cx="621684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33720" y="1600200"/>
          <a:ext cx="12794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12794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324480"/>
            <a:ext cx="685800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ALLER DE RELATIVIDAD, COSMOLOGÍA Y FÍSICA CUÁNTICA – 2016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JUEVES 6, 13 y 27 de OCTUBRE y 3, 10 y 17 de NOVIEMBRE de 2016, 18:00 h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 en página We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r>
              <a:rPr b="1" i="1" lang="es-AR" sz="1600" spc="-1" strike="noStrike">
                <a:solidFill>
                  <a:srgbClr val="000000"/>
                </a:solidFill>
                <a:latin typeface="Albertus Extra Bold"/>
              </a:rPr>
              <a:t> ó por mail: difusion@iafe.uba.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4376880"/>
            <a:ext cx="685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 TALLERES DE CIENCIA"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64960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57720" y="243216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60640" y="322416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9-19T19:02:58Z</dcterms:modified>
  <cp:revision>110</cp:revision>
  <dc:subject/>
  <dc:title>Presentación de PowerPoint</dc:title>
</cp:coreProperties>
</file>